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473-C918-46C8-9512-AF282DF6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9F2-6B57-4B07-B1E0-185DBE4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E7A-AB3F-424F-813B-7E1E315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117-59B4-4F59-9D42-119808D6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76A-0C8E-44B4-9DA9-32544032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BAD-54A1-4871-B722-D224D7B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271-E08E-4B5F-932C-5DC68D76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00E-AFB6-42AA-94C9-D8E1C92C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DEB-71E6-464F-ADF9-85CBE5A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582-EBA3-4E63-8F64-71BC4EB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556-EDD2-42CA-9F6A-67D4535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FC3-2FAA-4F29-BE96-06C0FC9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1AE-7C72-4151-BE66-AF2BE581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vsquad.com/media/2006/05/MrT3.jpg" TargetMode="External"/><Relationship Id="rId2" Type="http://schemas.openxmlformats.org/officeDocument/2006/relationships/hyperlink" Target="http://imagecache2.allposters.com/images/151/ET5010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53352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JazzText"/>
              </a:rPr>
              <a:t>Cat n' Mouse Ga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5334120"/>
            <a:ext cx="62341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erlin Sans FB Demi"/>
              </a:rPr>
              <a:t>By Arjun Sehgal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erlin Sans FB Demi"/>
              <a:ea typeface="Berlin Sans FB Demi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798600">
            <a:off x="4343040" y="533160"/>
            <a:ext cx="1447920" cy="2361960"/>
          </a:xfrm>
          <a:prstGeom prst="downArrow">
            <a:avLst>
              <a:gd name="adj1" fmla="val 50000"/>
              <a:gd name="adj2" fmla="val 407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809880" y="4191120"/>
            <a:ext cx="1752840" cy="2133360"/>
          </a:xfrm>
          <a:prstGeom prst="upArrow">
            <a:avLst>
              <a:gd name="adj1" fmla="val 47731"/>
              <a:gd name="adj2" fmla="val 31092"/>
            </a:avLst>
          </a:prstGeom>
          <a:gradFill rotWithShape="0">
            <a:gsLst>
              <a:gs pos="0">
                <a:srgbClr val="ff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 rot="1007400">
            <a:off x="6400440" y="3276720"/>
            <a:ext cx="2209680" cy="761760"/>
          </a:xfrm>
          <a:prstGeom prst="leftArrow">
            <a:avLst>
              <a:gd name="adj1" fmla="val 52917"/>
              <a:gd name="adj2" fmla="val 1852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 flipV="1" rot="1219200">
            <a:off x="380880" y="2361600"/>
            <a:ext cx="2286000" cy="1728720"/>
          </a:xfrm>
          <a:prstGeom prst="rightArrow">
            <a:avLst>
              <a:gd name="adj1" fmla="val 21167"/>
              <a:gd name="adj2" fmla="val 596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3809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Mr. T: P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1484280" cy="1871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4267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huck Norris:Playe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Homer Simpson: P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Stewie Griffin: Play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143000" y="4267080"/>
            <a:ext cx="1654200" cy="2238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324480" y="838080"/>
            <a:ext cx="1881360" cy="237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838080" y="685800"/>
            <a:ext cx="1679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111 L -0.27083 0.0111 E">
                                      <p:cBhvr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0.00925 C -0.02361 -0.0118 -0.07466 -0.01411 -0.07865 0.00092 C -0.08212 0.01456 -0.03959 0.04578 0.021 0.07352 C 0.08142 0.1015 0.13507 0.11468 0.13871 0.10081 C 0.14253 0.08578 0.09062 0.0578 0.0276 0.04 C -0.0349 0.02381 -0.0842 0.02242 -0.08768 0.03607 C -0.09132 0.05017 -0.04809 0.08277 0.01146 0.11005 C 0.07187 0.1378 0.12586 0.15005 0.12951 0.13595 C 0.13316 0.12231 0.08125 0.09433 0.01909 0.07699 C -0.0441 0.05919 -0.09323 0.05757 -0.09688 0.07144 C -0.10087 0.08647 -0.05747 0.1193 0.00295 0.14705 C 0.0625 0.17433 0.11649 0.18659 0.12031 0.17156 C 0.12361 0.15884 0.0717 0.13063 0.00989 0.11214 C -0.05226 0.09479 -0.10278 0.09387 -0.10643 0.10797 C -0.1099 0.12185 -0.06563 0.15491 -0.00625 0.18219 C 0.05521 0.2104 0.10729 0.22173 0.11093 0.20786 C 0.11441 0.19399 0.06354 0.16647 0.00139 0.14913 C -0.06077 0.13156 -0.11198 0.12948 -0.11545 0.14312 C -0.11945 0.15815 -0.07483 0.19005 -0.01441 0.2178 C 0.04618 0.24578 0.09809 0.25688 0.10173 0.24323 C 0.10538 0.22936 0.05451 0.20162 -0.00764 0.18427 C -0.06997 0.16716 -0.12136 0.16578 -0.12466 0.17826 C -0.1283 0.19237 -0.08316 0.22566 -0.02344 0.25294 C 0.03698 0.28092 0.08906 0.29225 0.09253 0.27838 C 0.09583 0.26589 0.04583 0.23838 -0.01684 0.21965 C -0.079 0.20231 -0.13056 0.20115 -0.13403 0.21479 C -0.13733 0.22751 -0.09254 0.26219 -0.03195 0.28994 C 0.02847 0.31792 0.07951 0.32878 0.08316 0.31491 C 0.08663 0.30104 0.03663 0.27375 -0.02552 0.25641 C -0.0875 0.2393 -0.14063 0.23583 -0.14323 0.25017 C -0.14601 0.26427 -0.10139 0.29618 -0.0408 0.32393 C 0.01961 0.3519 0.07066 0.36277 0.0743 0.3489 C 0.0776 0.33618 0.02951 0.30982 -0.03299 0.29387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777 0.05271 0.08402 0.04901 0.12552 0.05063 C 0.13645 0.05549 0.14791 0.05849 0.15885 0.06335 C 0.16302 0.0652 0.17152 0.06751 0.17152 0.06751 C 0.17621 0.07167 0.18645 0.07838 0.19062 0.08439 C 0.19618 0.09225 0.20347 0.09988 0.21111 0.10358 C 0.2177 0.1119 0.22482 0.10612 0.23177 0.10127 C 0.23506 0.09502 0.23663 0.08878 0.23975 0.08231 C 0.23923 0.07953 0.23715 0.07144 0.23819 0.07398 C 0.23958 0.07791 0.23906 0.08323 0.24131 0.08647 C 0.24895 0.09711 0.25555 0.10797 0.26354 0.11838 C 0.26875 0.12508 0.27447 0.13063 0.27951 0.13734 C 0.28003 0.13942 0.28003 0.14173 0.28107 0.14358 C 0.28263 0.14659 0.28906 0.15445 0.29218 0.15838 C 0.29513 0.16208 0.29704 0.16716 0.3 0.17109 C 0.30243 0.18011 0.30572 0.18705 0.30798 0.19653 C 0.3085 0.19861 0.30954 0.20277 0.30954 0.20277 C 0.30902 0.22612 0.30885 0.24924 0.30798 0.2726 C 0.30781 0.27907 0.30572 0.30312 0.30173 0.30843 C 0.29618 0.31583 0.29184 0.323 0.28576 0.32971 C 0.27777 0.33849 0.28489 0.33433 0.27621 0.33803 C 0.26736 0.35052 0.21875 0.34659 0.21753 0.34659 C 0.19496 0.35398 0.16388 0.35121 0.14444 0.32971 C 0.13142 0.31514 0.14756 0.33017 0.13506 0.31907 C 0.12812 0.30589 0.10989 0.28809 0.09843 0.28323 C 0.09444 0.27768 0.09131 0.27491 0.08576 0.2726 C 0.07916 0.26659 0.06805 0.26034 0.06041 0.2578 C 0.04652 0.24601 0.02986 0.24578 0.01441 0.23884 C 0.00816 0.23052 -0.00695 0.22797 -0.0158 0.22404 C -0.02796 0.21872 -0.01268 0.22543 -0.02535 0.21965 C -0.02691 0.21896 -0.03004 0.21757 -0.03004 0.21757 C -0.03559 0.2104 -0.04497 0.20624 -0.05226 0.20277 C -0.05539 0.20115 -0.06181 0.19861 -0.06181 0.19861 C -0.07882 0.20069 -0.07934 0.19768 -0.08716 0.21341 C -0.08872 0.22358 -0.09028 0.23167 -0.09358 0.24092 C -0.09931 0.28 -0.09671 0.26173 -0.09514 0.33595 C -0.09566 0.34728 -0.09532 0.35884 -0.09671 0.36994 C -0.09705 0.37248 -0.09931 0.37387 -0.1 0.37618 C -0.10087 0.37896 -0.10018 0.38265 -0.10157 0.38474 C -0.11684 0.40763 -0.14237 0.40832 -0.16337 0.40994 C -0.16875 0.41225 -0.17396 0.4141 -0.17934 0.41641 C -0.18125 0.41803 -0.19393 0.43167 -0.19671 0.43329 C -0.19983 0.43514 -0.20625 0.43745 -0.20625 0.43745 C -0.21164 0.43676 -0.21702 0.43699 -0.22223 0.43537 C -0.22414 0.43491 -0.22518 0.43213 -0.22691 0.43121 C -0.23507 0.42635 -0.24358 0.42127 -0.25226 0.41849 C -0.28264 0.42057 -0.28629 0.4141 -0.30157 0.44393 C -0.30209 0.44601 -0.30244 0.44832 -0.30313 0.45017 C -0.304 0.45248 -0.30556 0.4541 -0.30625 0.45641 C -0.3125 0.47976 -0.30487 0.46774 -0.31424 0.47976 C -0.31598 0.49156 -0.32014 0.50173 -0.32223 0.51352 C -0.32709 0.5415 -0.3224 0.5267 -0.32848 0.54312 C -0.33178 0.56578 -0.33907 0.58566 -0.34914 0.60439 C -0.3566 0.61826 -0.3474 0.60878 -0.35712 0.61711 C -0.36077 0.62474 -0.36337 0.62705 -0.3698 0.62982 C -0.40886 0.62843 -0.42205 0.64485 -0.43959 0.61294 C -0.44167 0.60462 -0.44306 0.59745 -0.44601 0.58959 C -0.44931 0.56763 -0.45539 0.54635 -0.45869 0.52416 C -0.46216 0.50034 -0.46407 0.47606 -0.46823 0.45225 C -0.47396 0.36971 -0.46945 0.28878 -0.46181 0.20716 C -0.45938 0.1482 -0.45712 0.09017 -0.45226 0.03167 C -0.44862 -0.01272 -0.4349 -0.05388 -0.42379 -0.09526 C -0.42032 -0.10798 -0.41962 -0.1207 -0.4158 -0.13318 C -0.41528 -0.13665 -0.41494 -0.14035 -0.41424 -0.14382 C -0.41337 -0.14821 -0.41112 -0.15654 -0.41112 -0.15654 C -0.41059 -0.16139 -0.41164 -0.1674 -0.40938 -0.17133 C -0.40816 -0.17341 -0.40712 -0.16717 -0.40625 -0.16509 C -0.40313 -0.15769 -0.40122 -0.15191 -0.39671 -0.1459 C -0.39445 -0.13665 -0.39237 -0.12763 -0.39046 -0.11839 C -0.38924 -0.11284 -0.38716 -0.10151 -0.38716 -0.10151 C -0.38473 -0.07099 -0.38125 -0.03931 -0.37292 -0.01064 C -0.36598 0.01341 -0.35816 0.03676 -0.35226 0.06127 C -0.35174 0.07052 -0.3573 0.08601 -0.3507 0.08878 C -0.34428 0.09156 -0.34237 0.07445 -0.33803 0.06751 C -0.32119 0.03976 -0.33855 0.07144 -0.32379 0.03791 C -0.31233 0.01179 -0.30296 -0.00972 -0.29358 -0.03815 C -0.29132 -0.04509 -0.28681 -0.05041 -0.28403 -0.05711 C -0.26928 -0.09295 -0.28577 -0.05966 -0.27292 -0.09526 C -0.26719 -0.11122 -0.25539 -0.14313 -0.24757 -0.15862 C -0.24705 -0.1607 -0.2448 -0.16347 -0.24601 -0.16509 C -0.24723 -0.16671 -0.24914 -0.1637 -0.2507 -0.16278 C -0.25348 -0.16093 -0.25591 -0.15839 -0.25869 -0.15654 C -0.26962 -0.14937 -0.28021 -0.1422 -0.29202 -0.13758 C -0.32726 -0.12394 -0.36841 -0.12324 -0.40469 -0.1207 C -0.43386 -0.11538 -0.42049 -0.11723 -0.44445 -0.11422 C -0.46528 -0.10729 -0.45278 -0.11052 -0.48247 -0.10798 C -0.48403 -0.10729 -0.48716 -0.10798 -0.48716 -0.1059 C -0.48716 -0.10081 -0.47327 -0.09341 -0.47292 -0.09318 C -0.45174 -0.06498 -0.42518 -0.0511 -0.39827 -0.03607 C -0.38994 -0.03145 -0.38004 -0.03145 -0.37136 -0.02752 C -0.3698 -0.02821 -0.36667 -0.0296 -0.36667 -0.0296 L 0.05555 -0.09735 L -0.27448 0.08439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28982 C -0.10416 0.20047 -0.05416 0.12315 0.01285 0.11783 C 0.07691 0.11111 0.13681 0.17107 0.1408 0.25787 C 0.14584 0.33773 0.10382 0.4125 0.04375 0.41783 C -0.01111 0.42176 -0.06319 0.37246 -0.06718 0.29792 C -0.07118 0.22986 -0.03611 0.16574 0.01476 0.16042 C 0.06181 0.15648 0.10591 0.19792 0.10886 0.26042 C 0.11181 0.31644 0.08386 0.37107 0.04184 0.37385 C 0.00382 0.37778 -0.03211 0.34584 -0.03524 0.29514 C -0.03715 0.24977 -0.01614 0.20579 0.01684 0.20324 C 0.04584 0.20047 0.07483 0.22454 0.07691 0.2632 C 0.07882 0.29653 0.06389 0.32848 0.03976 0.33125 C 0.0198 0.3338 -0.00121 0.31922 -0.00225 0.2926 C -0.00416 0.27107 0.00382 0.24838 0.01875 0.24584 C 0.03091 0.24584 0.04289 0.25116 0.0448 0.26574 C 0.04584 0.27523 0.04375 0.28449 0.03785 0.28843 C 0.0349 0.28982 0.03282 0.28982 0.02986 0.28843 E">
                                      <p:cBhvr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5579 C 0.00711 0.0419 0.01354 0.0287 0.0243 0.02407 C 0.03646 0.01343 0.03038 0.01736 0.0434 0.01134 C 0.04496 0.01065 0.04809 0.00926 0.04809 0.00949 C 0.0533 0.00995 0.05868 0.01019 0.06389 0.01134 C 0.06979 0.0125 0.07343 0.01921 0.0783 0.02199 C 0.08073 0.02338 0.0835 0.02338 0.08611 0.02407 C 0.09323 0.03056 0.10034 0.03125 0.10833 0.03472 C 0.12396 0.03333 0.13611 0.03102 0.15121 0.02847 C 0.16076 0.02199 0.15521 0.02523 0.16718 0.01991 C 0.16875 0.01921 0.17187 0.01782 0.17187 0.01806 C 0.17743 0.01042 0.18246 0.00833 0.18941 0.00301 C 0.19496 -0.00856 0.20659 -0.01389 0.21632 -0.01829 C 0.21944 -0.01968 0.22274 -0.02106 0.22586 -0.02245 C 0.22743 -0.02315 0.23055 -0.02454 0.23055 -0.02431 C 0.23316 -0.02384 0.23611 -0.02431 0.23854 -0.02245 C 0.23923 -0.02199 0.24739 -0.00231 0.24809 -0.00116 C 0.25052 0.00856 0.25521 0.01644 0.25764 0.02616 C 0.25816 0.04977 0.2467 0.10046 0.27031 0.11088 C 0.27534 0.10856 0.27795 0.10486 0.28298 0.10255 C 0.28402 0.10116 0.28489 0.09931 0.28611 0.09815 C 0.28767 0.09653 0.28958 0.09583 0.29097 0.09398 C 0.29583 0.0875 0.30139 0.07847 0.30521 0.0706 C 0.30798 0.05556 0.30955 0.0419 0.31632 0.02847 C 0.3184 0.02431 0.32066 0.01991 0.32274 0.01574 C 0.32534 0.01042 0.32899 -0.00116 0.32899 -0.00093 C 0.33107 -0.01273 0.33611 -0.02894 0.34496 -0.0331 C 0.34948 -0.02384 0.34948 -0.01875 0.35121 -0.00764 C 0.35382 0.0088 0.35746 0.02407 0.3592 0.04097 C 0.35798 0.06227 0.36076 0.06713 0.35121 0.07917 C 0.34548 0.09514 0.33958 0.11343 0.32586 0.11944 C 0.32118 0.11505 0.31857 0.11111 0.31319 0.1088 C 0.30729 0.09838 0.30208 0.08704 0.29566 0.07708 C 0.29027 0.06875 0.28316 0.06458 0.2783 0.05579 C 0.26475 0.03148 0.23854 -0.01829 0.23854 -0.01806 C 0.23628 -0.02708 0.22916 -0.04167 0.22274 -0.0456 C 0.21961 -0.04745 0.21319 -0.05 0.21319 -0.04977 C 0.20521 -0.04861 0.19705 -0.04838 0.18941 -0.0456 C 0.18125 -0.04259 0.17222 -0.01065 0.16875 -0.00116 C 0.16632 0.0287 0.16562 0.02708 0.16875 0.06852 C 0.16944 0.07731 0.17274 0.08218 0.175 0.08981 C 0.17986 0.10579 0.18472 0.12245 0.19253 0.13634 C 0.20069 0.15093 0.21336 0.16505 0.21788 0.18287 C 0.21684 0.19653 0.21753 0.21065 0.21007 0.22083 C 0.20937 0.22407 0.20659 0.24282 0.20521 0.24398 C 0.20347 0.24606 0.20104 0.2456 0.19896 0.2463 C 0.19444 0.25231 0.19132 0.25741 0.18941 0.26551 C 0.19184 0.38356 0.18559 0.31481 0.19566 0.35648 C 0.19097 0.37523 0.17777 0.38449 0.16389 0.38819 C 0.15972 0.3875 0.15521 0.38796 0.15121 0.38611 C 0.14757 0.38449 0.14166 0.37755 0.14166 0.37778 C 0.13611 0.36644 0.13038 0.36319 0.12118 0.36065 C 0.10486 0.34005 0.09097 0.31644 0.075 0.29514 C 0.06527 0.28218 0.05677 0.26713 0.0434 0.26111 C 0.03541 0.26181 0.02725 0.26088 0.01944 0.26319 C 0.01718 0.26389 0.01649 0.26782 0.01475 0.26968 C 0.00902 0.27616 0.00521 0.28102 0.00052 0.28866 C -0.00243 0.29352 -0.0092 0.29861 -0.01216 0.30139 C -0.01841 0.30694 -0.02327 0.31806 -0.02657 0.32685 C -0.02848 0.33194 -0.03091 0.33657 -0.03282 0.34167 C -0.03646 0.35162 -0.03629 0.36088 -0.04236 0.36921 C -0.05104 0.40417 -0.08177 0.43819 -0.10747 0.44954 C -0.1165 0.44884 -0.12552 0.44931 -0.13438 0.44745 C -0.13594 0.44722 -0.13646 0.44398 -0.13768 0.44306 C -0.14688 0.43495 -0.15799 0.41898 -0.16771 0.41574 C -0.18351 0.39468 -0.16042 0.42477 -0.17882 0.40301 C -0.18976 0.39005 -0.18247 0.39421 -0.19167 0.39028 C -0.19549 0.38148 -0.20018 0.37523 -0.20434 0.3669 C -0.20834 0.35069 -0.20243 0.37037 -0.21059 0.35648 C -0.21164 0.35463 -0.21146 0.35208 -0.21216 0.35 C -0.21511 0.34097 -0.21511 0.34213 -0.22014 0.33519 C -0.22344 0.32199 -0.2316 0.31065 -0.23768 0.29931 C -0.24115 0.29282 -0.24879 0.28032 -0.24879 0.28056 C -0.25018 0.27106 -0.2533 0.25718 -0.25834 0.25069 C -0.26198 0.23611 -0.2592 0.2412 -0.26459 0.23356 C -0.26893 0.21597 -0.27518 0.19097 -0.28681 0.18079 C -0.28785 0.1787 -0.28872 0.17639 -0.28993 0.17431 C -0.29132 0.17199 -0.29341 0.17037 -0.29479 0.16806 C -0.30573 0.14884 -0.29462 0.16366 -0.30278 0.15324 C -0.30452 0.1463 -0.31059 0.13426 -0.31059 0.13449 C -0.31198 0.12431 -0.31511 0.11644 -0.31702 0.10671 C -0.31858 0.08981 -0.32032 0.08032 -0.325 0.06435 C -0.32604 0.06088 -0.32813 0.0537 -0.32813 0.05394 C -0.3283 0.05208 -0.33056 0.0331 -0.33125 0.03056 C -0.33195 0.02824 -0.33351 0.02639 -0.33438 0.02407 C -0.33507 0.02199 -0.33559 0.01991 -0.33611 0.01782 C -0.33802 0.01019 -0.33907 0.00347 -0.34236 -0.00347 C -0.34584 -0.01088 -0.34896 -0.01759 -0.35504 -0.02037 C -0.36059 -0.02731 -0.36511 -0.02894 -0.37257 -0.03079 C -0.379 -0.03681 -0.38577 -0.03819 -0.39323 -0.04144 C -0.39479 -0.04213 -0.39792 -0.04352 -0.39792 -0.04329 C -0.44341 -0.04028 -0.41615 -0.04653 -0.43924 -0.03079 C -0.44618 -0.01829 -0.45486 -0.00787 -0.46302 0.00301 C -0.4724 0.01551 -0.49532 0.06644 -0.49792 0.07917 C -0.50452 0.11111 -0.51025 0.14375 -0.51389 0.17662 C -0.51719 0.20625 -0.51927 0.23241 -0.52657 0.26111 C -0.52917 0.30324 -0.52917 0.28704 -0.525 0.34792 C -0.52431 0.3581 -0.51858 0.37755 -0.51858 0.37778 C -0.51511 0.40648 -0.50486 0.43218 -0.49792 0.46019 C -0.49479 0.47292 -0.49254 0.46782 -0.48837 0.47894 C -0.47795 0.50694 -0.48716 0.49352 -0.47882 0.50463 C -0.48004 0.53148 -0.48299 0.57708 -0.47882 0.60162 C -0.47795 0.60648 -0.47257 0.60741 -0.46945 0.60995 C -0.46632 0.61296 -0.46511 0.61921 -0.46146 0.6206 C -0.45677 0.62245 -0.45191 0.625 -0.44723 0.62708 C -0.44566 0.62778 -0.44236 0.62917 -0.44236 0.6294 C -0.38941 0.62847 -0.33646 0.62986 -0.28368 0.62708 C -0.28143 0.62708 -0.28073 0.62222 -0.27882 0.6206 C -0.27743 0.61944 -0.2757 0.61921 -0.27414 0.61852 C -0.26841 0.61065 -0.26598 0.60255 -0.26146 0.59329 C -0.2566 0.58333 -0.25052 0.57708 -0.24393 0.56991 C -0.23594 0.56088 -0.24306 0.56528 -0.23438 0.56134 C -0.22986 0.55532 -0.22813 0.54931 -0.2217 0.54676 C -0.21736 0.54074 -0.21337 0.53657 -0.20747 0.53426 C -0.20261 0.52708 -0.19861 0.52384 -0.19167 0.52153 C -0.18716 0.51574 -0.18264 0.51389 -0.17726 0.51088 C -0.16893 0.50602 -0.16337 0.50139 -0.15504 0.49815 C -0.14827 0.4912 -0.14236 0.48866 -0.13438 0.48542 C -0.13125 0.48403 -0.12813 0.48264 -0.125 0.48125 C -0.12344 0.48056 -0.12014 0.47894 -0.12014 0.47917 C -0.10052 0.48056 -0.08334 0.48102 -0.06459 0.48773 C -0.06302 0.48912 -0.06164 0.49051 -0.0599 0.49167 C -0.05834 0.49282 -0.0566 0.49282 -0.05504 0.49398 C -0.04167 0.50347 -0.03004 0.51458 -0.01545 0.52153 C -0.00973 0.5287 -0.00382 0.53056 0.00364 0.53426 C 0.02187 0.54282 0.03993 0.55162 0.0592 0.55532 C 0.1026 0.57407 0.16389 0.55463 0.21163 0.54676 C 0.25086 0.54838 0.28177 0.55116 0.32118 0.55301 C 0.32066 0.57037 0.32378 0.58935 0.31944 0.60602 C 0.31805 0.61111 0.31093 0.60694 0.30677 0.60787 C 0.30139 0.6088 0.29635 0.61204 0.29097 0.61227 C 0.26562 0.61296 0.2401 0.61366 0.21475 0.61435 C 0.17847 0.62616 0.19132 0.62083 0.12274 0.62245 C 0.1217 0.62431 0.11996 0.62523 0.11944 0.62708 C 0.10989 0.65833 0.13038 0.64282 0.08298 0.64583 C 0.04444 0.66319 0.08437 0.64583 -0.02813 0.65046 C -0.03733 0.65093 -0.0474 0.65648 -0.0566 0.65833 C -0.08316 0.68125 -0.1191 0.68056 -0.14879 0.68426 C -0.1566 0.69097 -0.16094 0.68681 -0.16945 0.68426 C -0.17969 0.67731 -0.19063 0.67361 -0.20104 0.66713 C -0.20799 0.66319 -0.21268 0.65694 -0.22014 0.65463 C -0.22813 0.64074 -0.23907 0.63032 -0.24723 0.6162 C -0.25539 0.60255 -0.26111 0.58588 -0.26615 0.56991 C -0.2691 0.56042 -0.27275 0.55116 -0.2757 0.54259 C -0.28299 0.51829 -0.28507 0.49167 -0.28681 0.4662 C -0.28577 0.42639 -0.28594 0.40532 -0.27882 0.3713 C -0.27674 0.34676 -0.27674 0.33704 -0.25834 0.32894 C -0.23854 0.33218 -0.23629 0.33542 -0.22327 0.3544 C -0.21476 0.3669 -0.20417 0.37963 -0.19792 0.39444 C -0.18768 0.41852 -0.18195 0.4456 -0.17257 0.4706 C -0.16997 0.48866 -0.16424 0.50602 -0.1599 0.52361 C -0.15313 0.55093 -0.15 0.58866 -0.125 0.59514 C -0.1165 0.59398 -0.10782 0.59421 -0.09948 0.5912 C -0.09723 0.59051 -0.09653 0.58634 -0.09479 0.58449 C -0.08698 0.57685 -0.07952 0.56829 -0.07101 0.56134 C -0.0665 0.55208 -0.06094 0.54375 -0.0566 0.53426 C -0.05018 0.52037 -0.0474 0.50509 -0.04393 0.48958 C -0.04532 0.44375 -0.03993 0.45324 -0.05035 0.42847 C -0.05278 0.42269 -0.05434 0.41551 -0.05834 0.41134 C -0.05973 0.40972 -0.06476 0.40787 -0.06302 0.40718 C -0.0599 0.40579 -0.0566 0.40856 -0.05348 0.40926 C -0.04566 0.42014 -0.04063 0.4331 -0.03438 0.44537 C -0.03316 0.45579 -0.02934 0.47755 -0.02327 0.48542 C -0.01511 0.48356 -0.00903 0.4794 -0.00104 0.47708 C 0.00451 0.47338 0.00972 0.4706 0.01475 0.4662 C 0.01527 0.46366 0.01527 0.46065 0.01632 0.4581 C 0.01805 0.45324 0.02274 0.44537 0.02274 0.4456 C 0.02916 0.41921 0.02569 0.43704 0.02743 0.39028 C 0.03021 0.44352 0.03368 0.4963 0.0401 0.54861 C 0.03958 0.56806 0.04218 0.60324 0.03385 0.625 C 0.03194 0.62986 0.02812 0.63333 0.0243 0.63542 C 0.02031 0.63796 0.01163 0.63981 0.01163 0.64005 C -0.00417 0.61944 0.00677 0.63542 0.01163 0.56574 C 0.0125 0.55301 0.02777 0.48565 0.02899 0.48333 C 0.03211 0.47755 0.03593 0.47245 0.03854 0.4662 C 0.05416 0.43009 0.06805 0.39005 0.09097 0.36065 C 0.09149 0.35856 0.09409 0.3544 0.09253 0.3544 C 0.09062 0.3544 0.09027 0.35856 0.08941 0.36065 C 0.08003 0.38287 0.08854 0.36551 0.08142 0.37963 C 0.07639 0.40023 0.06788 0.41852 0.06232 0.43889 C 0.06024 0.44676 0.05798 0.45417 0.05607 0.46227 C 0.05486 0.46759 0.05277 0.47894 0.05277 0.47917 C 0.05451 0.49167 0.05416 0.50023 0.06389 0.50463 C 0.07448 0.5 0.07708 0.48958 0.08298 0.47894 C 0.09722 0.45301 0.12396 0.42037 0.13229 0.39028 C 0.13003 0.41806 0.12396 0.44329 0.11944 0.4706 C 0.11788 0.49167 0.11597 0.50718 0.11944 0.52986 C 0.11979 0.53241 0.12187 0.52569 0.12274 0.52361 C 0.12552 0.51644 0.1283 0.50972 0.13055 0.50231 C 0.13368 0.49259 0.13698 0.48287 0.1401 0.47292 C 0.14843 0.4463 0.15642 0.41829 0.16875 0.39444 C 0.17534 0.38148 0.18211 0.36181 0.19253 0.35208 C 0.19531 0.3412 0.19305 0.3456 0.19722 0.35648 C 0.19861 0.36019 0.20052 0.36343 0.20208 0.3669 C 0.20416 0.38449 0.21111 0.40139 0.21632 0.41782 C 0.21875 0.44074 0.225 0.47361 0.21475 0.49398 C 0.21562 0.45995 0.21111 0.39769 0.23854 0.37338 C 0.2559 0.37569 0.25625 0.37431 0.26718 0.38819 C 0.27291 0.40787 0.27152 0.42847 0.27343 0.44954 C 0.27413 0.45787 0.27552 0.46389 0.28142 0.4662 C 0.28906 0.46157 0.29357 0.45995 0.30208 0.4581 C 0.30503 0.45579 0.31041 0.45255 0.31319 0.44954 C 0.31493 0.44769 0.31597 0.44491 0.31788 0.44306 C 0.31927 0.44167 0.32274 0.44097 0.32274 0.4412 E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3247 -0.08532 0.26511 -0.17064 0.27465 -0.20301 C 0.2842 -0.23538 0.07448 -0.13735 0.05729 -0.19445 C 0.04011 -0.25156 0.23056 -0.48671 0.17153 -0.54544 C 0.1125 -0.60417 -0.27604 -0.53989 -0.2967 -0.54752 C -0.31736 -0.55515 0.08629 -0.59954 0.04775 -0.59191 C 0.0092 -0.58428 -0.44271 -0.55284 -0.52847 -0.50104 C -0.61423 -0.44925 -0.52969 -0.28671 -0.46666 -0.28116 C -0.40364 -0.27561 -0.21684 -0.48532 -0.15069 -0.46729 C -0.08455 -0.44925 0.00139 -0.11469 -0.06979 -0.17341 C -0.14097 -0.23214 -0.64288 -0.71399 -0.57778 -0.82012 C -0.51267 -0.92625 0.32136 -0.95792 0.32066 -0.80972 C 0.31997 -0.66151 -0.4783 -0.06266 -0.58246 0.06982 C -0.68663 0.20231 -0.33611 0.07005 -0.30469 -0.0148 C -0.27326 -0.09966 -0.3335 -0.26983 -0.39357 -0.43977 E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01922 C 0.0401 -0.05602 0.12622 -0.04005 0.20313 -0.01482 C 0.23438 -0.01551 0.26545 -0.01551 0.2967 -0.01713 C 0.30885 -0.0176 0.32049 -0.02894 0.33177 -0.0338 C 0.33594 -0.04005 0.3408 -0.04445 0.34601 -0.04885 C 0.34479 -0.06297 0.34479 -0.07176 0.33802 -0.08264 C 0.33663 -0.08496 0.33524 -0.0875 0.33333 -0.08889 C 0.33038 -0.09098 0.32379 -0.09306 0.32379 -0.09306 C 0.30833 -0.08658 0.31042 -0.07454 0.30313 -0.05949 C 0.29983 -0.03773 0.29774 -0.03773 0.28247 -0.02963 C 0.26667 -0.03056 0.25069 -0.02894 0.2349 -0.03172 C 0.22795 -0.0331 0.21875 -0.04306 0.21111 -0.04653 C 0.17813 -0.07986 0.16042 -0.11898 0.13958 -0.16528 C 0.13351 -0.17894 0.13038 -0.19445 0.12379 -0.20764 C 0.12066 -0.22084 0.11875 -0.23426 0.11736 -0.24769 C 0.11788 -0.27408 0.11754 -0.30023 0.11892 -0.32593 C 0.11944 -0.33611 0.12656 -0.34121 0.13004 -0.34931 C 0.1401 -0.37246 0.16754 -0.4044 0.18733 -0.4088 C 0.19879 -0.41621 0.21129 -0.41713 0.22379 -0.41898 C 0.23229 -0.4169 0.24219 -0.41968 0.24913 -0.41273 C 0.2559 -0.40602 0.26215 -0.40301 0.26979 -0.39792 C 0.27656 -0.38912 0.30295 -0.36991 0.31424 -0.36435 C 0.32205 -0.35348 0.3151 -0.36042 0.32535 -0.35579 C 0.33212 -0.35232 0.33802 -0.34676 0.34444 -0.34283 C 0.34757 -0.34098 0.35104 -0.34074 0.35399 -0.33866 C 0.35608 -0.33727 0.35816 -0.33611 0.36024 -0.33449 C 0.36823 -0.33519 0.37622 -0.33496 0.38403 -0.33658 C 0.39271 -0.33843 0.40712 -0.36273 0.41267 -0.37037 C 0.42448 -0.3875 0.4375 -0.4044 0.44757 -0.42338 C 0.46354 -0.45417 0.45573 -0.44306 0.46823 -0.45949 C 0.46997 -0.47084 0.47361 -0.47848 0.47778 -0.48889 C 0.48507 -0.52824 0.46823 -0.5581 0.45556 -0.59028 C 0.44201 -0.62431 0.42656 -0.65255 0.40938 -0.68357 C 0.4033 -0.69468 0.3974 -0.70463 0.39028 -0.71505 C 0.38559 -0.72246 0.38472 -0.72871 0.37778 -0.73218 C 0.37101 -0.74051 0.36111 -0.74306 0.35208 -0.74468 C 0.33559 -0.75255 0.31667 -0.75741 0.30156 -0.77014 C 0.2974 -0.77361 0.2934 -0.77801 0.28889 -0.78079 C 0.27483 -0.78959 0.25868 -0.79375 0.24444 -0.80185 C 0.23889 -0.80486 0.23403 -0.80996 0.22847 -0.8125 C 0.22344 -0.81482 0.21788 -0.81482 0.21267 -0.81667 C 0.20052 -0.8213 0.18837 -0.82685 0.17622 -0.83148 C 0.16458 -0.83588 0.15486 -0.84375 0.14288 -0.8463 C 0.12743 -0.85695 0.11111 -0.85695 0.09358 -0.85695 C 0.02899 -0.8581 -0.03941 -0.89051 -0.1 -0.86111 C -0.11701 -0.85278 -0.10104 -0.75139 -0.08576 -0.72361 C -0.08299 -0.7081 -0.08559 -0.71736 -0.07465 -0.69815 C -0.07257 -0.69468 -0.07187 -0.68935 -0.06996 -0.68542 C -0.0651 -0.67593 -0.05816 -0.66713 -0.05243 -0.65834 C -0.0408 -0.64051 -0.03177 -0.61968 -0.0191 -0.60301 C -0.01562 -0.59121 -0.01024 -0.58542 -0.00486 -0.57547 C 0.01059 -0.54676 0.02882 -0.52894 0.04913 -0.50579 C 0.06615 -0.48658 0.08194 -0.46644 0.10313 -0.45533 C 0.11007 -0.4456 0.10521 -0.44977 0.1158 -0.44676 C 0.11997 -0.44514 0.12847 -0.44236 0.12847 -0.44213 C 0.13368 -0.44329 0.15417 -0.4463 0.16337 -0.44885 C 0.17413 -0.45162 0.18333 -0.4588 0.19358 -0.46343 C 0.20191 -0.46713 0.19879 -0.46435 0.20781 -0.46991 C 0.21771 -0.47639 0.22795 -0.48218 0.23802 -0.48889 C 0.24097 -0.49121 0.24757 -0.49329 0.24757 -0.49283 C 0.24913 -0.49468 0.25052 -0.49653 0.25226 -0.49769 C 0.25538 -0.49931 0.26181 -0.50139 0.26181 -0.50139 C 0.26823 -0.50116 0.27483 -0.50232 0.28073 -0.49954 C 0.28247 -0.49908 0.28247 -0.4956 0.28247 -0.49329 C 0.28247 -0.48403 0.28212 -0.47477 0.28073 -0.46574 C 0.28056 -0.4632 0.27899 -0.46111 0.27778 -0.45949 C 0.27361 -0.45324 0.26267 -0.43565 0.25712 -0.42963 C 0.22882 -0.40023 0.19531 -0.39028 0.16024 -0.38519 C 0.14271 -0.38588 0.12517 -0.38473 0.10781 -0.38727 C 0.10017 -0.38866 0.08889 -0.4044 0.08889 -0.40417 C 0.08507 -0.41412 0.0809 -0.42338 0.07778 -0.4338 C 0.07379 -0.46343 0.07552 -0.45093 0.07292 -0.47199 C 0.07431 -0.5176 0.06962 -0.53241 0.09045 -0.56297 C 0.09323 -0.5669 0.09514 -0.57199 0.09844 -0.57547 C 0.1092 -0.58773 0.12361 -0.59977 0.13646 -0.60949 C 0.13958 -0.61181 0.14271 -0.61412 0.14601 -0.61574 C 0.14913 -0.61736 0.15556 -0.61991 0.15556 -0.61968 C 0.1658 -0.61644 0.16233 -0.61227 0.16667 -0.59885 C 0.16944 -0.56204 0.16701 -0.58449 0.17622 -0.53125 L 0.17622 -0.53102 C 0.1783 -0.51273 0.18247 -0.47616 0.18247 -0.47593 C 0.18403 -0.44792 0.19566 -0.39375 0.17292 -0.37894 C 0.15174 -0.39028 0.13281 -0.40903 0.11267 -0.42338 C 0.10694 -0.42732 0.10191 -0.43218 0.0967 -0.43611 C 0.0934 -0.43866 0.08733 -0.44445 0.08733 -0.44445 C 0.08681 -0.45787 0.08698 -0.4713 0.08559 -0.48473 C 0.08472 -0.4926 0.0783 -0.49954 0.07448 -0.50348 C 0.06632 -0.5125 0.05764 -0.52246 0.0474 -0.52685 C 0.04132 -0.52986 0.0401 -0.52778 0.0349 -0.53125 C 0.02396 -0.5382 0.03663 -0.53334 0.02379 -0.5375 C -0.00243 -0.53565 -0.02552 -0.53148 -0.05087 -0.525 C -0.06736 -0.51598 -0.08403 -0.51829 -0.09844 -0.53125 C -0.09948 -0.53334 -0.10035 -0.53565 -0.10156 -0.5375 C -0.10451 -0.5419 -0.10851 -0.54537 -0.11111 -0.55 C -0.11753 -0.56204 -0.12431 -0.57338 -0.13177 -0.58426 C -0.13576 -0.6 -0.13299 -0.59306 -0.13976 -0.60533 C -0.1441 -0.62292 -0.15 -0.63843 -0.16042 -0.65162 C -0.16597 -0.66713 -0.16545 -0.66551 -0.17778 -0.66042 C -0.18681 -0.64838 -0.18993 -0.64213 -0.19375 -0.62616 C -0.19323 -0.61991 -0.19323 -0.61343 -0.19219 -0.60741 C -0.1908 -0.59954 -0.18767 -0.59838 -0.1842 -0.59236 C -0.17639 -0.57986 -0.16736 -0.56991 -0.15885 -0.5588 C -0.15156 -0.54885 -0.1599 -0.55417 -0.15087 -0.55 C -0.14601 -0.5419 -0.14097 -0.5301 -0.13333 -0.52685 C -0.12378 -0.51783 -0.1184 -0.52755 -0.10955 -0.53334 C -0.10017 -0.5456 -0.10365 -0.53982 -0.09844 -0.55 C -0.09427 -0.56852 -0.09392 -0.58912 -0.10486 -0.60301 C -0.10677 -0.61065 -0.10764 -0.61736 -0.11111 -0.62408 C -0.11528 -0.64167 -0.12413 -0.65834 -0.13021 -0.675 C -0.13385 -0.68496 -0.13264 -0.69098 -0.13819 -0.69815 C -0.14028 -0.70672 -0.1441 -0.7125 -0.14774 -0.71945 C -0.15486 -0.74815 -0.15174 -0.77894 -0.15556 -0.80834 C -0.15608 -0.81181 -0.1625 -0.81898 -0.16354 -0.82107 C -0.16771 -0.82894 -0.17222 -0.83797 -0.17621 -0.8463 C -0.18142 -0.85695 -0.1776 -0.85185 -0.18108 -0.86111 C -0.18559 -0.87292 -0.19062 -0.88449 -0.19375 -0.89723 C -0.17396 -0.91019 -0.17569 -0.91135 -0.15087 -0.91412 C -0.11493 -0.91343 -0.07882 -0.91412 -0.04288 -0.91204 C -0.03958 -0.91181 -0.03663 -0.9088 -0.03333 -0.90764 C -0.02083 -0.90278 -0.00816 -0.90023 0.00469 -0.89723 C 0.01059 -0.89584 0.02222 -0.89283 0.02222 -0.8926 C 0.05694 -0.89607 0.09201 -0.89931 0.12691 -0.90348 C 0.1401 -0.90695 0.15347 -0.90949 0.16667 -0.91204 C 0.18194 -0.91111 0.20556 -0.90579 0.22222 -0.90556 C 0.32969 -0.90348 0.54444 -0.90139 0.54444 -0.90116 C 0.56649 -0.8956 0.58924 -0.9007 0.61111 -0.89283 C 0.62795 -0.87037 0.64497 -0.84769 0.66181 -0.82523 C 0.6783 -0.80301 0.69045 -0.77523 0.70313 -0.74908 C 0.71771 -0.71945 0.73455 -0.69167 0.74913 -0.6625 C 0.75295 -0.64699 0.75139 -0.65394 0.75399 -0.64098 C 0.7526 -0.61204 0.75191 -0.58866 0.73646 -0.5669 C 0.73455 -0.55903 0.73212 -0.55255 0.72847 -0.54584 C 0.72604 -0.53611 0.72205 -0.52778 0.71892 -0.51829 C 0.71701 -0.5125 0.71267 -0.50139 0.71267 -0.50139 C 0.71042 -0.4831 0.70781 -0.46528 0.70625 -0.44676 C 0.70694 -0.40162 0.7033 -0.31227 0.7158 -0.26065 C 0.71754 -0.25301 0.72049 -0.24653 0.72222 -0.23912 C 0.7217 -0.20023 0.72014 -0.16158 0.72066 -0.12269 C 0.72066 -0.12246 0.7349 -0.08426 0.73004 -0.10185 C 0.71892 -0.09792 0.71059 -0.09167 0.7 -0.08681 C 0.68368 -0.0794 0.66944 -0.07593 0.65226 -0.07408 C 0.59531 -0.07709 0.55608 -0.08056 0.50156 -0.07824 C 0.48038 -0.06898 0.45833 -0.05695 0.43646 -0.05093 C 0.41493 -0.03611 0.38837 -0.04144 0.3651 -0.0338 C 0.35538 -0.03102 0.34583 -0.02616 0.33646 -0.02153 C 0.33351 -0.02014 0.33125 -0.01829 0.32847 -0.01713 C 0.32535 -0.01528 0.31892 -0.01273 0.31892 -0.0125 C 0.31215 -0.02199 0.30382 -0.02871 0.29514 -0.0338 C 0.29097 -0.03635 0.28629 -0.0375 0.28247 -0.04028 C 0.27448 -0.04653 0.26927 -0.05093 0.26024 -0.05324 C 0.25035 -0.06297 0.23872 -0.06898 0.22691 -0.07408 C 0.20885 -0.08195 0.19167 -0.09699 0.17292 -0.10185 C 0.1592 -0.1088 0.14427 -0.11181 0.13004 -0.11667 C 0.11528 -0.12153 0.10069 -0.12639 0.08559 -0.12917 C 0.06337 -0.12848 0.04115 -0.12848 0.01892 -0.12709 C 0.0092 -0.12662 0.00104 -0.11991 -0.00799 -0.11667 C -0.02101 -0.11158 -0.03437 -0.1081 -0.04774 -0.10602 C -0.05191 -0.10417 -0.05625 -0.10394 -0.06042 -0.10185 C -0.07049 -0.09699 -0.07708 -0.08426 -0.08733 -0.08056 C -0.09549 -0.07315 -0.10312 -0.0669 -0.11267 -0.06366 C -0.12049 -0.05348 -0.11094 -0.06459 -0.12066 -0.05741 C -0.12882 -0.05116 -0.13542 -0.04213 -0.14444 -0.0382 C -0.16597 -0.01922 -0.14549 -0.03727 -0.15885 -0.02547 C -0.16042 -0.02431 -0.16354 -0.02153 -0.16354 -0.02107 C -0.16667 -0.01482 -0.16979 -0.01158 -0.17153 -0.00417 C -0.17101 0.00486 -0.17309 0.01504 -0.16996 0.02315 C -0.16875 0.02639 -0.16441 0.02268 -0.16198 0.02106 C -0.15486 0.01597 -0.15 0.00926 -0.14444 0.00208 C -0.1434 -0.00348 -0.14097 -0.00903 -0.14132 -0.01482 C -0.14167 -0.02014 -0.14149 -0.03658 -0.14444 -0.04445 C -0.15052 -0.06042 -0.17674 -0.05996 -0.18733 -0.06158 C -0.1974 -0.05996 -0.20174 -0.05996 -0.20955 -0.05324 C -0.21007 -0.05047 -0.21007 -0.04699 -0.21111 -0.04445 C -0.21181 -0.0426 -0.21389 -0.04213 -0.21441 -0.04028 C -0.21615 -0.03426 -0.21597 -0.02755 -0.21753 -0.02153 C -0.21701 -0.01343 -0.21892 -0.00463 -0.21597 0.00208 C -0.21441 0.00578 -0.20972 0.0044 -0.20642 0.00416 C -0.19844 0.0037 -0.19062 0.00139 -0.18264 2.96296E-006 C -0.17639 -0.00278 -0.17205 -0.0081 -0.16667 -0.01273 C -0.16615 -0.01551 -0.16615 -0.01875 -0.1651 -0.02153 C -0.16337 -0.02593 -0.15885 -0.0338 -0.15885 -0.03357 C -0.15677 -0.04699 -0.15556 -0.05185 -0.15556 -0.06806 C -0.15556 -0.09283 -0.15608 -0.11736 -0.15712 -0.1419 C -0.15781 -0.16158 -0.16615 -0.18264 -0.16996 -0.20139 C -0.17101 -0.20602 -0.17604 -0.23449 -0.17778 -0.23704 C -0.17882 -0.23889 -0.18108 -0.23866 -0.18264 -0.23912 C -0.18576 -0.23704 -0.18976 -0.23658 -0.19219 -0.23287 C -0.20556 -0.21343 -0.20694 -0.18658 -0.21267 -0.1632 C -0.21424 -0.14861 -0.21875 -0.12871 -0.21441 -0.11459 C -0.21371 -0.1125 -0.21111 -0.11297 -0.20955 -0.1125 C -0.18437 -0.11783 -0.16892 -0.14699 -0.15556 -0.17361 C -0.1533 -0.1831 -0.14948 -0.1919 -0.14774 -0.20139 C -0.1408 -0.2382 -0.14705 -0.21713 -0.14288 -0.24352 C -0.13472 -0.29514 -0.12396 -0.34746 -0.11267 -0.39792 C -0.1151 -0.45255 -0.11476 -0.51435 -0.12378 -0.56922 C -0.12604 -0.59908 -0.12865 -0.62848 -0.13177 -0.65834 C -0.13246 -0.66482 -0.13368 -0.68843 -0.1349 -0.69607 C -0.13681 -0.7081 -0.13802 -0.73218 -0.14774 -0.73635 C -0.15278 -0.73426 -0.15851 -0.73473 -0.16354 -0.73218 C -0.16719 -0.73033 -0.17309 -0.72361 -0.17309 -0.72338 C -0.17413 -0.72153 -0.175 -0.71945 -0.17621 -0.71736 C -0.1776 -0.71505 -0.17986 -0.71343 -0.18108 -0.71088 C -0.18194 -0.70903 -0.18177 -0.70672 -0.18264 -0.70463 C -0.18385 -0.70232 -0.18576 -0.70023 -0.18733 -0.69815 C -0.18941 -0.68959 -0.19427 -0.68426 -0.19844 -0.67709 C -0.19948 -0.67269 -0.20295 -0.66922 -0.2033 -0.66435 C -0.20434 -0.64653 -0.19861 -0.61181 -0.1842 -0.60533 C -0.17222 -0.61135 -0.17569 -0.61435 -0.16667 -0.62616 C -0.14983 -0.67246 -0.1283 -0.71783 -0.1191 -0.76806 C -0.12066 -0.77685 -0.12222 -0.78079 -0.12708 -0.78704 C -0.1316 -0.80579 -0.13333 -0.82547 -0.13819 -0.84422 C -0.14097 -0.86991 -0.14878 -0.89306 -0.15399 -0.91829 C -0.15642 -0.92986 -0.16181 -0.94098 -0.1651 -0.95209 C -0.16632 -0.95625 -0.16823 -0.96482 -0.16823 -0.96459 C -0.17986 -0.95486 -0.17517 -0.96158 -0.16996 -0.92685 C -0.16684 -0.90648 -0.16111 -0.87848 -0.15556 -0.85903 C -0.13941 -0.80185 -0.12257 -0.7713 -0.09375 -0.71945 C -0.08611 -0.70579 -0.07413 -0.69746 -0.0651 -0.68542 C -0.05608 -0.67361 -0.04965 -0.65834 -0.03976 -0.64746 C -0.01198 -0.61783 0.02813 -0.57639 0.06649 -0.5669 C 0.06823 -0.5676 0.07066 -0.56736 0.07135 -0.56922 C 0.07205 -0.5713 0.06979 -0.57338 0.06979 -0.57547 C 0.06979 -0.59167 0.07066 -0.61065 0.07778 -0.62408 C 0.07639 -0.64607 0.07639 -0.67547 0.06337 -0.6919 C 0.05694 -0.70903 0.06458 -0.69283 0.05399 -0.70463 C 0.05243 -0.70625 0.05243 -0.70973 0.05069 -0.71088 C 0.04514 -0.71459 0.03906 -0.71528 0.03333 -0.71736 L 0.03333 -0.71713 C 0.03021 -0.71875 0.02379 -0.72153 0.02379 -0.7213 C -0.01094 -0.71713 -0.00156 -0.71991 -0.02222 -0.70903 C -0.02691 -0.70047 -0.0309 -0.6926 -0.0349 -0.68357 C -0.03802 -0.65625 -0.04583 -0.62292 -0.03333 -0.59885 C -0.02882 -0.58033 -0.01858 -0.59723 -0.01111 -0.60301 C -0.00712 -0.60973 -0.00191 -0.61528 0.00156 -0.62199 C 0.00313 -0.62523 0.00347 -0.6294 0.00469 -0.63287 C 0.0099 -0.64769 0.01632 -0.66389 0.02379 -0.67709 C 0.02726 -0.69144 0.02986 -0.70533 0.03333 -0.71945 C 0.03247 -0.73635 0.03385 -0.75764 0.02222 -0.76806 C -0.00365 -0.76135 -0.02049 -0.73542 -0.03177 -0.70463 C -0.03576 -0.67755 -0.04167 -0.65394 -0.04444 -0.62616 C -0.04045 -0.53056 -0.04618 -0.57593 -0.02865 -0.48889 C -0.02604 -0.47547 -0.01806 -0.46505 -0.01267 -0.45324 C -0.01076 -0.44885 -0.00937 -0.44352 -0.00642 -0.44028 C -0.00382 -0.43773 0.00313 -0.43611 0.00313 -0.43588 C 0.05191 -0.45556 0.05816 -0.50787 0.08403 -0.5544 C 0.1151 -0.61065 0.15139 -0.65926 0.18247 -0.71505 C 0.19462 -0.73704 0.20764 -0.75695 0.21424 -0.78287 C 0.21267 -0.80764 0.21372 -0.8132 0.20156 -0.8294 C 0.19358 -0.82732 0.18542 -0.82639 0.17778 -0.82315 C 0.15 -0.81111 0.13264 -0.77292 0.12066 -0.74051 C 0.11858 -0.72593 0.11563 -0.70903 0.1158 -0.69398 C 0.11684 -0.62176 0.11476 -0.50903 0.17934 -0.48056 C 0.18351 -0.48264 0.18819 -0.48357 0.19201 -0.48681 C 0.20069 -0.49398 0.2026 -0.50463 0.20625 -0.51621 C 0.21059 -0.53056 0.21563 -0.54422 0.21892 -0.5588 C 0.22101 -0.56783 0.22257 -0.57732 0.22535 -0.58635 C 0.23333 -0.61297 0.24358 -0.6382 0.25226 -0.66435 C 0.25677 -0.67824 0.26285 -0.69144 0.26823 -0.70463 C 0.27014 -0.70973 0.2724 -0.71459 0.27448 -0.71945 C 0.27569 -0.72223 0.27778 -0.72778 0.27778 -0.72755 C 0.28125 -0.75093 0.27934 -0.76343 0.26181 -0.76806 C 0.25764 -0.76736 0.25295 -0.76852 0.24913 -0.76621 C 0.24358 -0.7625 0.24219 -0.75047 0.23802 -0.74468 C 0.23611 -0.73704 0.23316 -0.73195 0.23177 -0.72361 C 0.23281 -0.71875 0.23264 -0.71297 0.2349 -0.70903 C 0.23611 -0.70672 0.23924 -0.7081 0.24115 -0.70695 C 0.2441 -0.70463 0.24618 -0.70023 0.24913 -0.69815 C 0.27951 -0.67709 0.27118 -0.68426 0.29983 -0.675 C 0.30799 -0.67269 0.31563 -0.66829 0.32379 -0.66644 C 0.33108 -0.66482 0.33854 -0.66505 0.34601 -0.66435 C 0.35816 -0.66598 0.37031 -0.66621 0.38247 -0.66852 C 0.39323 -0.6706 0.41424 -0.67709 0.41424 -0.67709 C 0.43507 -0.69074 0.42292 -0.68172 0.44913 -0.70695 C 0.45521 -0.7125 0.45816 -0.72292 0.46337 -0.72986 C 0.46476 -0.74051 0.46719 -0.74931 0.46979 -0.75973 C 0.46927 -0.76968 0.46962 -0.77963 0.46823 -0.78912 C 0.46788 -0.79121 0.46615 -0.79213 0.4651 -0.79352 C 0.4526 -0.80996 0.44149 -0.81227 0.42379 -0.81459 C 0.37969 -0.8125 0.34427 -0.80903 0.30625 -0.78079 C 0.29792 -0.76528 0.29392 -0.75301 0.29028 -0.73426 C 0.2875 -0.68681 0.2842 -0.6375 0.29201 -0.59028 C 0.31163 -0.47292 0.37569 -0.37246 0.46337 -0.33658 C 0.5033 -0.32037 0.5099 -0.32199 0.54601 -0.31968 C 0.56406 -0.32477 0.58247 -0.32709 0.6 -0.33449 C 0.60417 -0.33635 0.63872 -0.36297 0.64601 -0.37037 C 0.6559 -0.38033 0.6658 -0.39051 0.67448 -0.40232 C 0.68958 -0.42246 0.70781 -0.44028 0.71736 -0.46574 C 0.73403 -0.51019 0.74306 -0.55209 0.74913 -0.60093 C 0.74549 -0.65996 0.74688 -0.69051 0.72691 -0.73866 C 0.71823 -0.75926 0.71059 -0.77801 0.69358 -0.78912 C 0.68351 -0.80301 0.66285 -0.8088 0.64913 -0.81459 C 0.63576 -0.82014 0.62292 -0.82986 0.60955 -0.83357 C 0.59583 -0.83148 0.58194 -0.82986 0.56823 -0.82732 C 0.55851 -0.82523 0.55156 -0.81736 0.54288 -0.8125 C 0.53629 -0.8088 0.52899 -0.80718 0.52222 -0.80394 C 0.5059 -0.79537 0.49097 -0.78611 0.47448 -0.77894 C 0.4533 -0.75741 0.42882 -0.74352 0.4158 -0.71088 C 0.41163 -0.7007 0.41024 -0.69236 0.40781 -0.68148 C 0.40521 -0.65255 0.40642 -0.6669 0.40313 -0.62408 C 0.4026 -0.61736 0.40156 -0.60301 0.40156 -0.60301 C 0.40382 -0.54005 0.40104 -0.49514 0.43333 -0.44885 C 0.4434 -0.43403 0.45764 -0.42037 0.47135 -0.41273 C 0.47951 -0.4081 0.4967 -0.40232 0.4967 -0.40209 C 0.525 -0.40695 0.52205 -0.4007 0.53333 -0.42547 C 0.5401 -0.47199 0.52274 -0.51019 0.50625 -0.54792 C 0.48177 -0.60463 0.42743 -0.66991 0.37934 -0.68797 C 0.36667 -0.68496 0.3533 -0.68519 0.34115 -0.67917 C 0.3125 -0.66482 0.29323 -0.6206 0.27778 -0.59028 C 0.24358 -0.52338 0.23038 -0.4463 0.21736 -0.36829 C 0.21302 -0.29398 0.21302 -0.1669 0.27118 -0.12269 C 0.28906 -0.10926 0.29132 -0.11181 0.31267 -0.1081 C 0.33177 -0.11065 0.35122 -0.11065 0.36979 -0.11667 C 0.44601 -0.14005 0.46389 -0.25209 0.4809 -0.33658 C 0.48281 -0.41204 0.48559 -0.43079 0.47135 -0.52037 C 0.46493 -0.56111 0.44201 -0.61343 0.42535 -0.64746 C 0.36754 -0.76621 0.28021 -0.87732 0.17135 -0.90139 C 0.15573 -0.90486 0.13958 -0.90278 0.12379 -0.90348 C 0.08889 -0.90278 0.05382 -0.9051 0.01892 -0.90139 C -0.04358 -0.89491 -0.10521 -0.86227 -0.15885 -0.82107 C -0.17847 -0.78797 -0.18715 -0.7757 -0.19219 -0.73426 C -0.19514 -0.66598 -0.19306 -0.57107 -0.13333 -0.55 C -0.12639 -0.55209 -0.11892 -0.55209 -0.11267 -0.55672 C -0.10417 -0.56297 -0.09062 -0.58195 -0.09062 -0.58172 C -0.08785 -0.58843 -0.08559 -0.59468 -0.08264 -0.60093 C -0.07917 -0.60834 -0.07465 -0.61435 -0.07153 -0.62199 C -0.06823 -0.6301 -0.06667 -0.63959 -0.06354 -0.64746 C -0.05573 -0.6676 -0.0467 -0.6794 -0.03663 -0.69815 C -0.03108 -0.70857 -0.02674 -0.72014 -0.02066 -0.72986 C -0.01302 -0.74213 -0.00417 -0.75348 0.00469 -0.76412 C 0.00694 -0.7669 0.01129 -0.76644 0.01267 -0.77014 C 0.01372 -0.77292 0.00833 -0.76898 0.00625 -0.76806 C -0.02222 -0.74537 -0.04861 -0.73426 -0.05885 -0.68797 C -0.06562 -0.61621 -0.03003 -0.54005 0.02535 -0.53125 C 0.04844 -0.53797 0.04844 -0.53334 0.05556 -0.56088 C 0.06285 -0.63959 0.0342 -0.71459 -0.00156 -0.77454 C -0.01476 -0.7963 -0.02743 -0.81667 -0.04601 -0.83148 C -0.07326 -0.85301 -0.10868 -0.8581 -0.13976 -0.86111 C -0.16875 -0.85695 -0.18802 -0.86736 -0.19687 -0.83148 C -0.19375 -0.81598 -0.19236 -0.79954 -0.18733 -0.78519 C -0.18403 -0.77523 -0.16701 -0.75695 -0.16042 -0.75139 C -0.13628 -0.73102 -0.11371 -0.72361 -0.08576 -0.71945 C -0.07674 -0.72107 -0.0658 -0.72246 -0.06042 -0.73426 C -0.05729 -0.74098 -0.05243 -0.75533 -0.05243 -0.75533 C -0.05191 -0.76019 -0.05087 -0.76528 -0.05087 -0.77014 C -0.05087 -0.78565 -0.0474 -0.80255 -0.05243 -0.81667 C -0.05434 -0.82199 -0.06094 -0.81273 -0.0651 -0.81042 C -0.08003 -0.80162 -0.09306 -0.78959 -0.10799 -0.78079 C -0.1184 -0.7669 -0.12292 -0.75741 -0.12708 -0.73866 C -0.12517 -0.71343 -0.12552 -0.69167 -0.11753 -0.66852 C -0.11128 -0.65 -0.09913 -0.63056 -0.08889 -0.61574 C -0.05764 -0.57176 -0.04271 -0.55648 0.00156 -0.5419 C 0.01319 -0.54329 0.02535 -0.54121 0.03646 -0.54584 C 0.0691 -0.56042 0.08316 -0.60209 0.09358 -0.64098 C 0.09462 -0.64885 0.09722 -0.65648 0.0967 -0.66435 C 0.09514 -0.68473 0.0974 -0.73635 0.07292 -0.7426 C 0.06563 -0.74468 0.05816 -0.74422 0.05069 -0.74468 C 0.02639 -0.7382 0.01545 -0.7331 -2.77778E-007 -0.70695 C -0.00434 -0.68588 -0.00764 -0.68033 -0.0033 -0.65834 C 0.00122 -0.63542 0.0125 -0.6206 0.02535 -0.60533 C 0.0559 -0.56852 0.09323 -0.54098 0.13333 -0.52685 C 0.14844 -0.52199 0.16406 -0.51991 0.17934 -0.51621 C 0.19896 -0.51829 0.21858 -0.51875 0.23802 -0.52246 C 0.26944 -0.52894 0.28889 -0.56366 0.30469 -0.59653 C 0.30938 -0.625 0.31563 -0.65047 0.31736 -0.67917 C 0.3158 -0.71366 0.32083 -0.71991 0.29844 -0.72986 C 0.26944 -0.72662 0.24184 -0.72824 0.2158 -0.71088 C 0.18663 -0.65162 0.26406 -0.60949 0.29514 -0.59885 C 0.31024 -0.59398 0.32569 -0.59098 0.34115 -0.58843 C 0.35017 -0.58658 0.3592 -0.58681 0.36823 -0.58635 C 0.40208 -0.59005 0.42778 -0.59352 0.45208 -0.62616 C 0.45521 -0.63889 0.46111 -0.65093 0.46163 -0.66435 C 0.46424 -0.72107 0.39201 -0.71621 0.36979 -0.71736 C 0.26233 -0.70602 0.16163 -0.70255 0.06649 -0.63056 C 0.06129 -0.6206 0.05417 -0.61204 0.05069 -0.60093 C 0.04826 -0.59306 0.04879 -0.58426 0.04913 -0.57547 C 0.05087 -0.51783 0.0842 -0.49838 0.12066 -0.48473 C 0.13073 -0.4875 0.14132 -0.48773 0.15069 -0.49329 C 0.15451 -0.49514 0.15625 -0.50139 0.15868 -0.50579 C 0.16806 -0.52361 0.17014 -0.54375 0.17292 -0.56482 C 0.17101 -0.58033 0.17153 -0.61898 0.15556 -0.62616 C 0.13785 -0.61574 0.13681 -0.61968 0.12691 -0.59653 C 0.12205 -0.58542 0.11424 -0.56088 0.11424 -0.56042 C 0.11563 -0.54746 0.1184 -0.50463 0.12535 -0.48889 C 0.14444 -0.44584 0.1901 -0.43334 0.22379 -0.42963 C 0.24219 -0.43449 0.24688 -0.43449 0.25556 -0.45741 C 0.25399 -0.46783 0.25365 -0.47894 0.25069 -0.48889 C 0.24288 -0.51551 0.21493 -0.53195 0.1967 -0.5375 C 0.15365 -0.55093 0.12986 -0.54861 0.08559 -0.55 C 0.07083 -0.54931 0.05573 -0.55116 0.04115 -0.54792 C 0.00191 -0.53982 -0.0283 -0.50463 -0.05885 -0.47408 C -0.07049 -0.44885 -0.08472 -0.42523 -0.08576 -0.39375 C -0.08941 -0.30185 -0.06354 -0.25093 -0.00486 -0.21181 C 0.02413 -0.21435 0.02379 -0.20787 0.03333 -0.24121 C 0.03629 -0.26505 0.0375 -0.28102 0.02066 -0.29213 C 0.00226 -0.27986 -0.01128 -0.26135 -0.02552 -0.24121 C -0.05104 -0.20533 -0.07413 -0.17037 -0.08576 -0.12269 C -0.08472 -0.11297 -0.08507 -0.10255 -0.08264 -0.09306 C -0.08212 -0.09098 -0.07934 -0.09051 -0.07778 -0.09098 C -0.0717 -0.09329 -0.06562 -0.10625 -0.06198 -0.1125 C -0.06024 -0.12176 -0.05642 -0.12732 -0.05243 -0.13542 C -0.06215 -0.08403 -0.04653 -0.01042 -0.00156 -0.00209 C 0.00365 -0.00417 0.0092 -0.00533 0.01424 -0.00857 C 0.0184 -0.01111 0.02535 -0.01922 0.02535 -0.01875 C 0.02969 -0.03635 0.03125 -0.03195 0.02379 -0.02963 C 0.02066 -0.02894 0.01736 -0.02848 0.01424 -0.02755 C 0.0059 -0.02408 0.0026 -0.02454 -0.00486 -0.01713 C -0.00625 -0.00973 -0.00781 2.96296E-006 -2.77778E-007 2.96296E-006 E">
                                      <p:cBhvr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8229 0.03125 0.36475 0.06274 0.42587 0.07477 C 0.48698 0.08681 0.43229 0.08912 0.36666 0.07269 C 0.30104 0.05625 0.07083 -0.06111 0.03194 -0.0243 C -0.00695 0.0125 0.09253 0.19514 0.13333 0.29306 C 0.17413 0.39098 0.23784 0.52037 0.27725 0.56366 C 0.31666 0.60695 0.37882 0.60371 0.36979 0.55348 C 0.36076 0.50324 0.21944 0.3044 0.22274 0.26274 C 0.22604 0.22107 0.39809 0.2757 0.38941 0.30301 C 0.38073 0.33033 0.22743 0.43681 0.17118 0.42639 C 0.11493 0.41598 0.08889 0.26945 0.05156 0.24028 C 0.01423 0.21158 -0.0224 0.22362 -0.05295 0.25255 C -0.08351 0.28149 -0.13334 0.35649 -0.13177 0.41412 C -0.13021 0.47176 -0.08281 0.57107 -0.04393 0.59792 C -0.00504 0.62477 0.05434 0.57662 0.10156 0.5757 C 0.14878 0.57477 0.17031 0.58889 0.23941 0.5919 C 0.3085 0.59491 0.46111 0.59352 0.51666 0.59399 C 0.57222 0.59445 0.53611 0.59607 0.57274 0.59399 C 0.60937 0.5919 0.75538 0.58704 0.73646 0.58195 C 0.71753 0.57686 0.48212 0.60139 0.4592 0.56366 C 0.43628 0.52593 0.56979 0.40811 0.59861 0.35556 C 0.62743 0.30301 0.67899 0.27362 0.63194 0.24862 C 0.58489 0.22362 0.33281 0.24375 0.31666 0.20602 C 0.30052 0.16829 0.51528 0.08172 0.53489 0.02223 C 0.55451 -0.03726 0.47986 -0.1449 0.43489 -0.15138 C 0.38993 -0.15787 0.32465 -0.00601 0.26528 -0.0162 C 0.2059 -0.02638 0.14166 -0.17708 0.07882 -0.21203 C 0.01597 -0.24699 -0.0599 -0.21342 -0.11216 -0.22615 C -0.16441 -0.23888 -0.22344 -0.27777 -0.23472 -0.28888 C -0.24601 -0.3 -0.19636 -0.32176 -0.18021 -0.29282 C -0.16406 -0.26388 -0.12934 -0.22338 -0.13785 -0.11504 C -0.14636 -0.00670999999999999 -0.22275 0.27107 -0.23177 0.35764 C -0.2408 0.44422 -0.19132 0.36042 -0.19236 0.40417 C -0.19341 0.44792 -0.24011 0.5875 -0.23785 0.62014 C -0.23559 0.65278 -0.19271 0.60255 -0.17882 0.6 C -0.16493 0.59746 -0.17743 0.61482 -0.15452 0.60417 C -0.1316 0.59352 -0.06962 0.53843 -0.0408 0.53542 C -0.01198 0.53241 0.00538 0.57524 0.01823 0.58588 C 0.03107 0.59653 0.02916 0.6007 0.03646 0.6 C 0.04375 0.59931 0.04913 0.58727 0.06215 0.58195 C 0.075 0.57662 0.10295 0.56991 0.11371 0.56783 C 0.12448 0.56574 0.14184 0.5838 0.12725 0.56968 C 0.11267 0.55556 0.04913 0.49723 0.02587 0.48287 C 0.00243 0.46852 0.01684 0.49723 -0.01354 0.48287 C -0.04393 0.46852 -0.15556 0.40996 -0.15608 0.39607 C -0.1566 0.38218 -0.03073 0.39699 -0.01667 0.4 C -0.00261 0.40301 -0.06163 0.40348 -0.07118 0.41412 C -0.08073 0.42477 -0.10486 0.51852 -0.07413 0.46459 C -0.04341 0.41065 0.08403 0.15116 0.11371 0.09098 C 0.1434 0.03056 0.08159 0.07061 0.10451 0.10301 C 0.12743 0.13542 0.28159 0.30487 0.25156 0.28496 C 0.22153 0.26505 -0.03941 0.05834 -0.0757 -0.0162 C -0.11198 -0.09074 0.00243 -0.2074 0.03333 -0.16157 C 0.06423 -0.11574 0.06198 0.21945 0.1092 0.25857 C 0.15642 0.29769 0.27257 0.0801 0.31666 0.07269 C 0.36076 0.06528 0.36753 0.24977 0.3743 0.21389 C 0.38107 0.17848 0.39826 -0.11689 0.35764 -0.14143 C 0.31701 -0.16597 0.15503 0.01783 0.13038 0.06667 C 0.10573 0.11551 0.1901 0.13727 0.2092 0.15162 C 0.2283 0.16598 0.21198 0.17616 0.24548 0.15348 C 0.27899 0.13079 0.38003 0.06088 0.41059 0.01621 C 0.44114 -0.02847 0.43316 -0.11064 0.42882 -0.11504 C 0.42448 -0.11944 0.41337 -0.00648 0.38489 -0.00995 C 0.35642 -0.01342 0.28923 -0.12453 0.25764 -0.13541 C 0.22604 -0.14629 0.20538 -0.09259 0.19548 -0.07476 C 0.18559 -0.05694 0.20243 -0.03726 0.19861 -0.02824 C 0.19479 -0.01921 0.1743 -0.03819 0.17274 -0.02013 C 0.17118 -0.00208 0.18698 0.06436 0.18941 0.08079 E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3 -0.09733 L 0.177 -0.09733 L 0.25 0 L 0.25 0.13867 L 0.177 0.236 L 0.073 0.236 L 0 0.13867 L 0 0 Z">
                                      <p:cBhvr>
                                        <p:cTn id="3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972 -0.02477 -0.03073 -0.03078 -0.04548 -0.04861 C -0.05451 -0.05972 -0.0585 -0.07523 -0.06371 -0.08889 C -0.06597 -0.09444 -0.06927 -0.0993 -0.07135 -0.10509 C -0.07534 -0.11574 -0.07882 -0.12662 -0.08177 -0.1375 C -0.08333 -0.14352 -0.09114 -0.15694 -0.08646 -0.15555 C -0.08437 -0.15486 -0.08246 -0.15439 -0.08038 -0.1537 C -0.07239 -0.14305 -0.08246 -0.13194 -0.08941 -0.12731 C -0.09184 -0.13634 -0.09097 -0.14004 -0.08489 -0.1456 C -0.07882 -0.14421 -0.07257 -0.14375 -0.06684 -0.14143 C -0.05885 -0.13842 -0.05312 -0.12824 -0.04548 -0.12338 C -0.03958 -0.1125 -0.03593 -0.10324 -0.04861 -0.09699 C -0.05139 -0.0956 -0.05451 -0.0956 -0.05764 -0.0949 C -0.06684 -0.09699 -0.07604 -0.09814 -0.08489 -0.10139 C -0.09427 -0.10416 -0.1033 -0.1125 -0.11215 -0.11713 C -0.11319 -0.11921 -0.11441 -0.12106 -0.11527 -0.12338 C -0.121 -0.13958 -0.10503 -0.13958 -0.09722 -0.14143 C -0.08941 -0.14097 -0.06076 -0.14977 -0.05625 -0.13148 C -0.05885 -0.11805 -0.06701 -0.10671 -0.07569 -0.09907 C -0.07777 -0.09977 -0.08021 -0.09907 -0.08177 -0.10139 C -0.08333 -0.10324 -0.0835 -0.10648 -0.08333 -0.10949 C -0.08246 -0.12963 -0.08246 -0.13078 -0.07291 -0.13935 C -0.05434 -0.13819 -0.03958 -0.1412 -0.02448 -0.12731 C -0.02396 -0.12453 -0.02222 -0.12176 -0.02274 -0.11921 C -0.02396 -0.11574 -0.02725 -0.11412 -0.02899 -0.11111 C -0.03611 -0.09814 -0.02586 -0.10602 -0.03958 -0.09907 C -0.05173 -0.08264 -0.05625 -0.08935 -0.07725 -0.09097 C -0.08663 -0.09907 -0.08611 -0.10208 -0.08941 -0.11527 C -0.08889 -0.1199 -0.08941 -0.125 -0.08784 -0.12939 C -0.08628 -0.13472 -0.07552 -0.14352 -0.07291 -0.1456 C -0.05885 -0.15648 -0.04288 -0.15926 -0.02725 -0.16157 C -0.02031 -0.16018 -0.01284 -0.16134 -0.00625 -0.15787 C -0.00347 -0.15625 -0.00173 -0.15139 -0.00173 -0.14745 C -0.00173 -0.13541 -0.00364 -0.12291 -0.00625 -0.11111 C -0.01146 -0.08564 -0.04097 -0.05995 -0.0592 -0.05671 C -0.06302 -0.05833 -0.06736 -0.05833 -0.07135 -0.06064 C -0.07864 -0.06551 -0.08802 -0.09143 -0.09097 -0.10139 C -0.09166 -0.10509 -0.09253 -0.10926 -0.09253 -0.11319 C -0.09201 -0.12268 -0.09184 -0.1324 -0.08941 -0.14143 C -0.08611 -0.15532 -0.0651 -0.16111 -0.05625 -0.16365 C -0.05312 -0.16296 -0.04982 -0.16365 -0.04722 -0.16157 C -0.04375 -0.15902 -0.04687 -0.13703 -0.04861 -0.13148 C -0.05625 -0.10764 -0.06996 -0.09444 -0.08646 -0.08287 C -0.09878 -0.08958 -0.10104 -0.09213 -0.1033 -0.10949 C -0.10208 -0.11597 -0.10173 -0.12291 -0.10017 -0.12939 C -0.09826 -0.13657 -0.09635 -0.13541 -0.09253 -0.13935 C -0.0908 -0.1412 -0.08958 -0.14398 -0.08784 -0.1456 C -0.0835 -0.14953 -0.07621 -0.1493 -0.07135 -0.15162 C -0.04722 -0.1449 -0.05069 -0.15023 -0.03663 -0.13148 C -0.03437 -0.12847 -0.03125 -0.12685 -0.02899 -0.12338 C -0.02656 -0.11967 -0.02448 -0.11527 -0.02274 -0.11111 C -0.01996 -0.10463 -0.0151 -0.09097 -0.0151 -0.09097 C -0.01666 -0.08009 -0.01771 -0.06921 -0.01996 -0.05879 C -0.02274 -0.0449 -0.04548 -0.04583 -0.05312 -0.04444 C -0.07378 -0.04884 -0.09045 -0.05115 -0.1092 -0.06273 C -0.11614 -0.06759 -0.13038 -0.07685 -0.13038 -0.07685 C -0.13646 -0.09027 -0.14045 -0.09074 -0.13646 -0.10509 C -0.13402 -0.11389 -0.12448 -0.11504 -0.1184 -0.11921 C -0.11371 -0.12222 -0.1092 -0.1243 -0.10451 -0.12731 C -0.09878 -0.13125 -0.09427 -0.1368 -0.08784 -0.13935 C -0.07951 -0.14629 -0.0651 -0.15463 -0.06059 -0.1375 C -0.06111 -0.11759 -0.06146 -0.09699 -0.06232 -0.07685 C -0.0625 -0.07106 -0.0651 -0.05949 -0.06996 -0.05671 C -0.07691 -0.05301 -0.08507 -0.05185 -0.09253 -0.05069 C -0.10416 -0.05185 -0.1158 -0.05301 -0.12725 -0.05463 C -0.13073 -0.05509 -0.13611 -0.05254 -0.13784 -0.05671 C -0.13923 -0.06018 -0.13177 -0.05787 -0.12882 -0.05879 C -0.12343 -0.05787 -0.11371 -0.05995 -0.1092 -0.05254 C -0.10451 -0.04514 -0.10746 -0.04537 -0.10451 -0.03842 C -0.10277 -0.03426 -0.09861 -0.02639 -0.09861 -0.02639 C -0.0967 -0.01041 -0.09027 0.00371 -0.08784 0.01991 C -0.08958 0.03102 -0.09027 0.03449 -0.09722 0.04028 C -0.09913 0.03866 -0.10191 0.03843 -0.1033 0.03635 C -0.11111 0.02385 -0.09409 0.01598 -0.08784 0.01412 C -0.08489 0.0132 -0.08177 0.01273 -0.07882 0.01204 C -0.07621 0.01273 -0.07343 0.0125 -0.07135 0.01412 C -0.06649 0.01783 -0.06684 0.03033 -0.0651 0.03635 C -0.06475 0.04306 -0.06371 0.04977 -0.06371 0.05648 C -0.06371 0.05996 -0.06284 0.06482 -0.0651 0.06667 C -0.06701 0.06829 -0.06927 0.06366 -0.07135 0.0625 C -0.07257 0.06158 -0.07413 0.06135 -0.07569 0.06065 C -0.08038 0.05417 -0.08021 0.05533 -0.07291 0.06065 C -0.06649 0.07338 -0.06284 0.08588 -0.06059 0.10093 C -0.0625 0.13264 -0.06232 0.15533 -0.06996 0.1838 C -0.07378 0.19792 -0.07552 0.20718 -0.08646 0.21204 C -0.0908 0.19398 -0.07934 0.18519 -0.07291 0.17153 C -0.06823 0.18403 -0.06736 0.19005 -0.06371 0.20186 C -0.06059 0.2125 -0.05659 0.22107 -0.05451 0.23218 C -0.05521 0.23565 -0.05399 0.24074 -0.05625 0.24236 C -0.05885 0.24445 -0.0625 0.24213 -0.0651 0.24028 C -0.07239 0.23496 -0.08784 0.21875 -0.09409 0.20996 C -0.0934 0.20718 -0.09444 0.20255 -0.09253 0.20186 C -0.08646 0.2 -0.07691 0.19653 -0.07448 0.20394 C -0.0684 0.2213 -0.06979 0.25348 -0.08489 0.26065 C -0.10729 0.24028 -0.11909 0.21227 -0.12274 0.17778 C -0.12152 0.1588 -0.12257 0.15417 -0.11215 0.14329 C -0.10451 0.14584 -0.10121 0.15093 -0.09722 0.15949 C -0.10034 0.19491 -0.11302 0.22801 -0.12882 0.25648 C -0.12934 0.25996 -0.12986 0.2632 -0.13038 0.26667 C -0.1309 0.26945 -0.13333 0.27292 -0.13177 0.27477 C -0.13021 0.27662 -0.12777 0.27338 -0.12569 0.27269 C -0.1217 0.27338 -0.11753 0.27269 -0.11371 0.27477 C -0.09791 0.28403 -0.09027 0.30348 -0.08038 0.32107 C -0.07795 0.34074 -0.07135 0.35834 -0.06823 0.37778 C -0.07309 0.40047 -0.07413 0.39445 -0.09253 0.3919 C -0.08159 0.38681 -0.08003 0.40162 -0.07569 0.41204 C -0.06562 0.43681 -0.07031 0.41968 -0.06684 0.43426 C -0.06875 0.44398 -0.06736 0.44792 -0.07882 0.44028 C -0.08194 0.4382 -0.08871 0.42662 -0.08646 0.43033 C -0.08177 0.43843 -0.07691 0.4419 -0.07135 0.44815 C -0.06875 0.45139 -0.06371 0.45857 -0.06371 0.45857 C -0.06562 0.48334 -0.06163 0.47385 -0.07291 0.48889 C -0.07448 0.49098 -0.07534 0.49445 -0.07725 0.49491 C -0.08333 0.4963 -0.09566 0.49885 -0.09566 0.49885 C -0.1026 0.49815 -0.10989 0.49977 -0.11684 0.49699 C -0.1184 0.4963 -0.11684 0.49121 -0.11527 0.49074 C -0.11128 0.48959 -0.10729 0.49213 -0.1033 0.49283 C -0.08819 0.49954 -0.07656 0.51366 -0.06371 0.52523 C -0.05121 0.54885 -0.05538 0.53773 -0.05 0.55741 C -0.05121 0.56829 -0.05173 0.57917 -0.05312 0.58982 C -0.0585 0.62593 -0.08073 0.65278 -0.10451 0.66852 C -0.10416 0.66181 -0.10833 0.64977 -0.1033 0.64838 C -0.04236 0.63195 -0.04687 0.62639 -0.03507 0.65857 C -0.04062 0.67408 -0.04444 0.68148 -0.05625 0.68681 C -0.06475 0.68241 -0.06875 0.67848 -0.07448 0.66852 C -0.07396 0.66644 -0.07448 0.66297 -0.07291 0.6625 C -0.06024 0.65903 -0.06076 0.66644 -0.05451 0.67477 C -0.05225 0.68519 -0.04948 0.69422 -0.04722 0.7051 C -0.04635 0.70926 -0.04409 0.71713 -0.04409 0.71713 C -0.04461 0.72246 -0.04409 0.72824 -0.04548 0.73334 C -0.04635 0.73565 -0.04896 0.73542 -0.05 0.73727 C -0.05121 0.73889 -0.05034 0.7419 -0.05173 0.74329 C -0.05434 0.7463 -0.06163 0.74838 -0.0651 0.74954 C -0.08246 0.74491 -0.09288 0.73681 -0.10764 0.72523 C -0.11146 0.70973 -0.11319 0.71551 -0.10451 0.70695 C -0.06371 0.71019 -0.06336 0.70695 -0.03663 0.71922 C -0.02934 0.72616 -0.02222 0.73195 -0.0151 0.73936 C -0.01198 0.75301 -0.01024 0.75486 -0.01823 0.76551 C -0.03611 0.76181 -0.05486 0.76019 -0.07135 0.74954 C -0.07187 0.74861 -0.07777 0.74213 -0.07569 0.73936 C -0.07309 0.73565 -0.06111 0.73403 -0.05764 0.73334 C -0.03836 0.73565 -0.01354 0.73542 0.00139 0.75556 C 0.00417 0.7669 0 0.77408 -0.00764 0.77778 C -0.01771 0.77315 -0.01736 0.75834 -0.00764 0.75139 C -0.00347 0.74838 0.00139 0.74908 0.00591 0.74746 C 0.03438 0.74885 0.06007 0.75394 0.08785 0.75741 C 0.08872 0.7588 0.0908 0.75973 0.0908 0.76158 C 0.0908 0.76482 0.08004 0.77292 0.07882 0.77361 C 0.07726 0.77547 0.07205 0.78426 0.07101 0.7757 C 0.07084 0.77199 0.07327 0.76898 0.07431 0.76551 C 0.07986 0.74561 0.10104 0.74051 0.11511 0.73727 C 0.12535 0.73843 0.13837 0.73635 0.14688 0.74746 C 0.14931 0.7507 0.15434 0.75741 0.15434 0.75741 C 0.15747 0.77408 0.15174 0.77686 0.1408 0.77963 C 0.10782 0.77639 0.07379 0.77778 0.04236 0.76158 C 0.03438 0.74514 0.04966 0.73311 0.05764 0.72315 C 0.06372 0.71528 0.06962 0.70695 0.07552 0.69885 C 0.07882 0.69445 0.08403 0.6926 0.08785 0.68889 C 0.0908 0.68588 0.09358 0.68195 0.0967 0.67871 C 0.10035 0.67523 0.10382 0.6713 0.10747 0.66852 C 0.11337 0.66459 0.12552 0.65857 0.12552 0.65857 C 0.14809 0.66135 0.13959 0.65648 0.14983 0.67662 C 0.14931 0.6875 0.15104 0.69885 0.14827 0.70903 C 0.1408 0.73542 0.09653 0.74144 0.08004 0.74329 C 0.05191 0.74167 0.04792 0.75023 0.0349 0.72732 C 0.02518 0.68982 0.0283 0.64838 0.0408 0.61204 C 0.04393 0.60278 0.04931 0.59514 0.05278 0.58565 C 0.0691 0.54283 0.04914 0.56644 0.08629 0.5169 C 0.09896 0.5 0.11129 0.48079 0.12882 0.47269 C 0.13646 0.49352 0.13785 0.51459 0.1408 0.53727 C 0.14358 0.58866 0.1441 0.58912 0.13924 0.66459 C 0.13785 0.68542 0.12587 0.69607 0.11198 0.69885 C 0.08004 0.69213 0.075 0.68797 0.04827 0.66667 C 0.03716 0.64167 0.0349 0.63148 0.03316 0.60186 C 0.03629 0.57801 0.03664 0.56528 0.04549 0.54144 C 0.06198 0.49561 0.09879 0.46598 0.1316 0.4463 C 0.17101 0.42292 0.14584 0.43287 0.17101 0.42408 C 0.204 0.43218 0.19323 0.42477 0.20903 0.4544 C 0.22379 0.5213 0.23056 0.58982 0.23924 0.65857 C 0.23802 0.68426 0.24375 0.6919 0.22882 0.69699 C 0.18976 0.67801 0.16059 0.65741 0.14827 0.60186 C 0.14983 0.5875 0.14896 0.57292 0.15278 0.55949 C 0.15851 0.53889 0.17101 0.53473 0.18334 0.52523 C 0.19028 0.52662 0.19775 0.52639 0.20452 0.52917 C 0.20764 0.53056 0.20973 0.53403 0.21198 0.53727 C 0.23177 0.56528 0.23733 0.58195 0.24688 0.61783 C 0.25104 0.65741 0.25782 0.70533 0.2408 0.74144 C 0.23108 0.7625 0.2125 0.77547 0.19688 0.78773 C 0.1908 0.78241 0.19254 0.78588 0.19098 0.7757 C 0.18681 0.74792 0.18525 0.72061 0.18177 0.69283 C 0.18282 0.68334 0.18229 0.67338 0.18473 0.66459 C 0.18577 0.66181 0.18907 0.66204 0.19098 0.66065 C 0.20104 0.65278 0.19636 0.65394 0.20903 0.64838 C 0.23907 0.63426 0.26858 0.61829 0.29983 0.60996 C 0.32223 0.61598 0.30834 0.6088 0.30434 0.67269 C 0.30313 0.69491 0.29809 0.71945 0.28334 0.73125 C 0.27084 0.72755 0.25382 0.725 0.24236 0.71505 C 0.18872 0.66898 0.15035 0.56945 0.11806 0.5051 C 0.05729 0.38311 -0.00121 0.25209 -0.01666 0.10486 C -0.01336 0.06135 0.00973 0.01111 0.04549 0.00186 C 0.06025 -0.00208 0.07431 -0.00416 0.08924 -0.00602 C 0.09775 -0.00463 0.10677 -0.00486 0.11511 -0.00208 C 0.11858 -0.00092 0.12101 0.00324 0.12431 0.00602 C 0.14011 0.01829 0.14098 0.02361 0.14827 0.0463 C 0.15104 0.07107 0.15104 0.05996 0.14532 0.09699 C 0.13959 0.13519 0.12257 0.19098 0.0908 0.2 C 0.07726 0.19769 0.075 0.19699 0.06806 0.18172 C 0.06875 0.1676 0.06806 0.15324 0.06962 0.13912 C 0.07032 0.13102 0.07257 0.12246 0.07552 0.11505 C 0.0875 0.0838 0.10851 0.03473 0.13004 0.01204 C 0.14098 0.00047 0.1533 -0.0081 0.16511 -0.01828 C 0.16858 -0.02129 0.19532 -0.02708 0.2 -0.02824 C 0.23056 -0.02639 0.23177 -0.02615 0.25608 -0.0081 C 0.28403 0.03496 0.2908 0.06991 0.29983 0.12523 C 0.30226 0.1801 0.30729 0.2507 0.25608 0.25857 C 0.24827 0.25579 0.24063 0.25417 0.23334 0.25047 C 0.22153 0.24445 0.21806 0.22801 0.21354 0.21412 C 0.20834 0.16042 0.23525 0.11158 0.27431 0.10093 C 0.28039 0.10232 0.28664 0.10232 0.29236 0.10486 C 0.30139 0.10949 0.31754 0.12917 0.32275 0.13912 C 0.32969 0.15278 0.34098 0.18172 0.34098 0.18172 C 0.34236 0.18889 0.34584 0.1963 0.34549 0.20394 C 0.34375 0.24653 0.34202 0.27963 0.31216 0.29699 C 0.30591 0.3007 0.29879 0.30232 0.29236 0.3051 C 0.24601 0.29746 0.19427 0.29769 0.16198 0.2463 C 0.14861 0.17801 0.19427 0.1125 0.23785 0.08473 C 0.24549 0.07986 0.25382 0.0757 0.26198 0.07246 C 0.27657 0.0676 0.30608 0.06065 0.30608 0.06065 C 0.31823 0.06273 0.33021 0.06366 0.34236 0.06667 C 0.36736 0.07292 0.38212 0.09699 0.39375 0.12523 C 0.39775 0.14699 0.40122 0.16065 0.4 0.1838 C 0.39584 0.26875 0.33143 0.32408 0.28004 0.35556 C 0.26337 0.36598 0.24653 0.37639 0.22882 0.38357 C 0.20955 0.3919 0.16962 0.40186 0.16962 0.40186 C 0.15486 0.39723 0.16354 0.37963 0.16962 0.36158 C 0.17934 0.33218 0.19879 0.29422 0.21354 0.27061 C 0.26563 0.18658 0.33264 0.11852 0.40139 0.06065 C 0.4408 0.02755 0.48229 -0.00625 0.52882 -0.0162 C 0.53577 -0.01342 0.54375 -0.01342 0.55 -0.0081 C 0.5533 -0.00532 0.55295 0.00116 0.55452 0.00602 C 0.55643 0.01343 0.55851 0.02061 0.56059 0.02824 C 0.57101 0.21667 0.44115 0.37153 0.30886 0.39792 C 0.30556 0.39584 0.29931 0.39676 0.29827 0.3919 C 0.29653 0.38311 0.30035 0.37431 0.30157 0.36551 C 0.30608 0.33033 0.30556 0.33056 0.3165 0.29491 C 0.33091 0.24931 0.35486 0.1875 0.37414 0.15139 C 0.39792 0.10741 0.41962 0.04838 0.46042 0.02824 C 0.46858 0.03102 0.47761 0.03079 0.48473 0.03635 C 0.48941 0.04005 0.49098 0.04815 0.49375 0.05417 C 0.50365 0.07523 0.51302 0.0963 0.52275 0.11713 C 0.5375 0.14931 0.54462 0.21273 0.55 0.25047 C 0.54827 0.27732 0.54931 0.30463 0.54549 0.33125 C 0.54132 0.36088 0.53004 0.37454 0.51354 0.3919 C 0.46667 0.44074 0.44289 0.43982 0.38473 0.44815 C 0.27778 0.42616 0.29653 0.45162 0.24236 0.38773 C 0.225 0.31783 0.25174 0.25324 0.29236 0.20811 C 0.36285 0.12917 0.44445 0.11065 0.53334 0.10093 C 0.61372 0.10787 0.75261 0.09236 0.78629 0.22616 C 0.78802 0.25672 0.78907 0.28959 0.78177 0.31922 C 0.78021 0.32477 0.77778 0.3301 0.77552 0.33519 C 0.77292 0.34144 0.7665 0.35348 0.7665 0.35348 C 0.76129 0.34861 0.76059 0.34977 0.75903 0.33936 C 0.74219 0.23311 0.76181 0.33033 0.74098 0.23426 C 0.73438 0.17199 0.70486 0.0507 0.77726 0.03635 C 0.78282 0.03681 0.78854 0.03658 0.79375 0.0382 C 0.81059 0.04398 0.81962 0.0713 0.82552 0.09074 C 0.83004 0.13681 0.81389 0.18311 0.79688 0.22223 C 0.78299 0.25371 0.77379 0.28496 0.74688 0.29699 C 0.73559 0.29074 0.73073 0.28079 0.72726 0.26459 C 0.71736 0.21968 0.71754 0.21505 0.71354 0.17778 C 0.71511 0.13148 0.70816 0.07547 0.73924 0.04445 C 0.74688 0.04723 0.75504 0.04792 0.76198 0.05255 C 0.7665 0.05533 0.76962 0.06135 0.77275 0.06667 C 0.79688 0.11135 0.80712 0.15162 0.81198 0.20602 C 0.81007 0.22963 0.81059 0.25371 0.80591 0.27662 C 0.80348 0.28889 0.7967 0.29885 0.79098 0.30903 C 0.75382 0.3757 0.69827 0.39815 0.63924 0.40394 C 0.63438 0.40255 0.62882 0.40278 0.62431 0.4 C 0.60955 0.39167 0.61094 0.36436 0.60903 0.34723 C 0.61007 0.32593 0.60903 0.30394 0.61198 0.28264 C 0.61441 0.26667 0.62066 0.25162 0.62552 0.23635 C 0.64601 0.17292 0.68993 0.0757 0.74375 0.05417 C 0.74653 0.05556 0.74948 0.05579 0.75139 0.05857 C 0.75677 0.06551 0.75712 0.10186 0.75747 0.10903 C 0.75712 0.11482 0.75469 0.18889 0.75 0.20394 C 0.73229 0.25857 0.69948 0.32616 0.65608 0.34931 C 0.64341 0.35625 0.63282 0.35602 0.61962 0.35741 C 0.59827 0.3507 0.58299 0.34398 0.56511 0.32732 C 0.56164 0.31829 0.55747 0.30996 0.55452 0.30093 C 0.54844 0.28334 0.53785 0.24838 0.53785 0.24838 C 0.53004 0.19861 0.52518 0.16875 0.53004 0.11713 C 0.53282 0.08982 0.54497 0.06065 0.56511 0.05047 C 0.57275 0.04653 0.58299 0.04561 0.59098 0.04445 C 0.63403 0.04977 0.65174 0.07338 0.67552 0.11922 C 0.67986 0.13982 0.68802 0.16019 0.68785 0.18172 C 0.6875 0.20556 0.68629 0.22963 0.68177 0.25255 C 0.66407 0.34236 0.56528 0.38588 0.50591 0.39584 C 0.48681 0.39908 0.46754 0.39861 0.44827 0.4 C 0.38525 0.39098 0.34011 0.39051 0.29532 0.32523 C 0.26858 0.23797 0.28351 0.14236 0.31216 0.05857 C 0.35278 -0.06203 0.42118 -0.17801 0.52101 -0.21412 C 0.53004 -0.21342 0.53941 -0.21458 0.54827 -0.21227 C 0.56042 -0.20926 0.57066 -0.19259 0.57882 -0.18194 C 0.58455 -0.16458 0.59167 -0.1493 0.59688 -0.13148 C 0.59723 -0.12477 0.59896 -0.11805 0.59827 -0.11111 C 0.59601 -0.07662 0.59358 -0.04768 0.5665 -0.03842 C 0.56129 -0.03657 0.55556 -0.03588 0.55 -0.03449 C 0.52917 -0.03588 0.50816 -0.0331 0.48768 -0.03842 C 0.39115 -0.06319 0.379 -0.07986 0.29375 -0.13935 C 0.26754 -0.15787 0.25052 -0.16828 0.23473 -0.20208 C 0.2283 -0.26018 0.27535 -0.26643 0.30764 -0.27083 C 0.34167 -0.26805 0.38559 -0.27384 0.41059 -0.23449 C 0.41893 -0.22106 0.41858 -0.21852 0.42414 -0.20208 C 0.42466 -0.1993 0.43004 -0.16551 0.43004 -0.16365 C 0.42726 -0.09907 0.3915 -0.04629 0.34549 -0.02824 C 0.32882 -0.03379 0.35591 -0.0618 0.36059 -0.06689 C 0.3757 -0.0824 0.39202 -0.09629 0.40747 -0.11111 C 0.44341 -0.14514 0.50226 -0.17754 0.54549 -0.19004 C 0.56181 -0.1949 0.579 -0.19583 0.59549 -0.20023 C 0.62761 -0.19722 0.64775 -0.21018 0.65747 -0.17176 C 0.65243 -0.15856 0.65052 -0.15926 0.64375 -0.14953 C 0.6625 -0.14629 0.67483 -0.13541 0.69098 -0.12338 C 0.71302 -0.10717 0.69132 -0.12708 0.70903 -0.10949 C 0.71042 -0.10787 0.71198 -0.10671 0.71354 -0.10509 C 0.71459 -0.10393 0.71806 -0.10185 0.7165 -0.10139 C 0.71372 -0.10023 0.71059 -0.10231 0.70747 -0.10301 C 0.66771 -0.12338 0.62882 -0.14676 0.58924 -0.16782 C 0.57952 -0.17314 0.56059 -0.18588 0.56059 -0.18588 C 0.55955 -0.19004 0.55643 -0.19514 0.56354 -0.19398 C 0.58195 -0.1912 0.6 -0.18564 0.61823 -0.18194 C 0.65018 -0.16689 0.6915 -0.15856 0.7165 -0.12523 C 0.7092 -0.11875 0.71007 -0.11828 0.69688 -0.11921 C 0.66042 -0.12222 0.62396 -0.125 0.58785 -0.13148 C 0.30938 -0.18194 0.4415 -0.16782 0.22552 -0.21018 C 0.11771 -0.23125 0.08455 -0.24097 -0.01996 -0.25046 C -0.04201 -0.25254 -0.10885 -0.25301 -0.08646 -0.25254 C -0.03107 -0.25162 0.08004 -0.24861 0.08004 -0.24861 C 0.08924 -0.24722 0.09861 -0.24629 0.10747 -0.24444 C 0.11198 -0.24352 0.11806 -0.24537 0.12101 -0.24051 C 0.12309 -0.2375 0.11754 -0.23426 0.11511 -0.2324 C 0.10973 -0.2287 0.10434 -0.22569 0.09827 -0.2243 C 0.06823 -0.21759 0.03768 -0.21342 0.00764 -0.2081 C -0.07968 -0.19282 -0.04548 -0.19768 -0.13038 -0.19004 C -0.15173 -0.18611 -0.17552 -0.18379 -0.19705 -0.17777 C -0.12569 -0.16944 -0.05538 -0.1537 0.01511 -0.13541 C 0.03525 -0.13009 0.08334 -0.12222 0.09983 -0.11319 C 0.10504 -0.11041 0.11007 -0.10764 0.11511 -0.10509 C 0.11962 -0.10277 0.12882 -0.09907 0.12882 -0.09907 C 0.10174 -0.08055 0.12153 -0.09236 0.05139 -0.10509 C -0.00798 -0.11597 -0.01111 -0.12129 -0.06996 -0.1375 C -0.10052 -0.14606 -0.13142 -0.15347 -0.16215 -0.16157 C -0.1651 -0.1625 -0.1743 -0.16365 -0.17118 -0.16365 C -0.15642 -0.16365 -0.14184 -0.16088 -0.12725 -0.15972 C -0.07396 -0.15162 -0.02222 -0.14189 0.03177 -0.13935 C 0.0408 -0.13796 0.05 -0.13634 0.05903 -0.13541 C 0.0691 -0.13449 0.09931 -0.13171 0.08924 -0.13333 C 0.0415 -0.1412 -0.00972 -0.14375 -0.05764 -0.14745 C -0.10208 -0.14676 -0.14652 -0.14768 -0.19097 -0.1456 C -0.19288 -0.1456 -0.18819 -0.14213 -0.18646 -0.14143 C -0.18194 -0.13981 -0.17725 -0.13981 -0.17274 -0.13935 C -0.16319 -0.13842 -0.15347 -0.13773 -0.14392 -0.1375 C -0.09635 -0.13611 0.05365 -0.13402 0.09236 -0.13333 C 0.03716 -0.11342 -0.02673 -0.11435 -0.07569 -0.07268 C -0.08715 -0.05046 -0.07951 -0.03472 -0.06232 -0.0243 C -0.01111 0.00625 0.03889 0.01875 0.09375 0.03635 C 0.12657 0.04676 0.10834 0.04352 0.13785 0.0463 C 0.14132 0.04699 0.15174 0.04769 0.14827 0.04838 C 0.12778 0.05301 0.10677 0.05209 0.08629 0.05255 C 0.04879 0.05348 0.01164 0.05348 -0.02586 0.05417 C -0.03663 0.0551 -0.08611 0.05348 -0.10017 0.06667 C -0.09201 0.08287 -0.09878 0.07199 -0.06996 0.07871 C -0.04062 0.08519 -0.01024 0.0801 0.01962 0.08079 C 0.04167 0.08218 0.06632 0.07084 0.08629 0.08473 C 0.09879 0.09352 0.05903 0.09422 0.04549 0.09885 C 0.02952 0.10417 0.01302 0.10764 -0.00312 0.11111 C -0.05347 0.12176 -0.10816 0.12778 -0.15764 0.14746 C -0.16996 0.16968 -0.15312 0.17408 -0.13941 0.17963 C -0.11232 0.18982 -0.08576 0.19236 -0.05764 0.19398 C 0.01389 0.20324 -0.01736 0.2007 0.03629 0.20394 C 0.01164 0.2426 -0.03385 0.2507 -0.04861 0.30093 C -0.03385 0.32755 -0.01198 0.31991 0.01216 0.32107 C 0.04167 0.32408 0.07205 0.32061 0.10157 0.32732 C 0.04879 0.37037 -0.01527 0.37037 -0.07448 0.38357 C -0.09635 0.38866 -0.14444 0.39584 -0.16371 0.41991 C -0.08316 0.47246 0.01563 0.40394 0.10278 0.42824 C 0.09306 0.44815 0.10157 0.43311 0.06806 0.46065 C 0.06129 0.46621 0.05539 0.47338 0.04827 0.47871 C 0.03889 0.48588 0.029 0.49167 0.01962 0.49885 C 0.01476 0.50255 0.01042 0.50672 0.00591 0.51111 C -0.00277 0.51991 -0.01996 0.53936 -0.01996 0.53936 C -0.02673 0.56343 -0.01284 0.56505 0.00278 0.56551 C 0.04236 0.56667 0.08177 0.5669 0.12101 0.5676 C 0.0967 0.59514 0.06771 0.60463 0.03768 0.61621 C 0.01302 0.6257 -0.01163 0.63635 -0.03663 0.6463 C -0.04948 0.65139 -0.07291 0.67061 -0.07291 0.67061 C -0.07448 0.67338 -0.07864 0.67593 -0.07725 0.67871 C -0.07534 0.68287 -0.07031 0.68287 -0.06684 0.68287 C -0.05208 0.68287 -0.0375 0.68079 -0.02274 0.67871 C 0.09132 0.66273 0.0125 0.66922 0.08004 0.66459 C 0.09497 0.6625 0.11632 0.65417 0.1316 0.65857 C 0.0967 0.69144 0.05764 0.70811 0.01667 0.72107 C -0.03663 0.73797 -0.0151 0.72662 -0.03784 0.73936 C -0.03246 0.73148 -0.00173 0.72246 0.00278 0.72107 C 0.03438 0.71158 0.04653 0.7132 0.07882 0.70695 C 0.11059 0.7007 0.14236 0.6919 0.17431 0.68681 C 0.2 0.68287 0.25157 0.67477 0.25157 0.67477 C 0.25764 0.67269 0.26354 0.67014 0.26962 0.66852 C 0.27361 0.66736 0.28559 0.66551 0.28177 0.66667 C 0.2191 0.68611 0.15504 0.69306 0.0908 0.69699 C 0.07396 0.70023 0.05816 0.70162 0.04236 0.70903 C 0.08108 0.71019 0.1191 0.71135 0.15747 0.71505 C 0.16702 0.71713 0.18334 0.71713 0.19098 0.72732 C 0.13959 0.77084 0.04479 0.76968 -0.01215 0.77778 C -0.05711 0.78403 -0.10052 0.79699 -0.14548 0.8 C -0.15156 0.80139 -0.15764 0.80394 -0.16371 0.80394 C -0.16597 0.80394 -0.15989 0.8007 -0.15764 0.8 C -0.15173 0.79792 -0.14548 0.79676 -0.13941 0.79584 C -0.1309 0.79468 -0.12239 0.79491 -0.11371 0.79398 C -0.04461 0.78658 -0.12361 0.79236 -0.05 0.78773 C -0.01753 0.77871 0.01667 0.77662 0.04827 0.76366 C 0.03125 0.76297 0.01302 0.76945 -0.00312 0.76158 C -0.01076 0.75787 0.01164 0.75162 0.01962 0.74954 C 0.03941 0.74422 0.05903 0.73866 0.07882 0.73334 C 0.12327 0.72107 0.16875 0.7125 0.21354 0.70093 C 0.22049 0.69908 0.22813 0.69838 0.23473 0.69491 C 0.23889 0.69283 0.24306 0.69121 0.24688 0.68889 C 0.24861 0.68773 0.2533 0.68473 0.25157 0.68473 C 0.23125 0.68473 0.21111 0.68982 0.19098 0.69283 C 0.17379 0.69537 0.1566 0.69769 0.13924 0.70093 C 0.06702 0.71436 0.11806 0.70973 0.05764 0.71297 C 0.05469 0.7132 0.02813 0.71852 0.02414 0.71111 C 0.02188 0.70672 0.02778 0.70139 0.03004 0.69699 C 0.03976 0.67894 0.04028 0.68334 0.05452 0.66852 C 0.06979 0.65209 0.08629 0.63658 0.10157 0.61991 C 0.10521 0.61598 0.10834 0.61042 0.11198 0.60602 C 0.11528 0.60232 0.12257 0.59584 0.12257 0.59584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6 0.06 0.08 C 0.06 0.132 0.03 0.15067 0.012 0.15867 L -0.012 0.16667 C -0.03 0.17467 -0.06 0.19467 -0.06 0.25333 C -0.06 0.29067 -0.033 0.33333 0 0.33333 C 0.033 0.33333 0.06 0.29067 0.06 0.25333 C 0.06 0.19467 0.03 0.17467 0.012 0.16667 L -0.012 0.15867 C -0.03 0.15067 -0.06 0.132 -0.06 0.08 C -0.06 0.036 -0.033 0 0 0 Z">
                                      <p:cBhvr>
                                        <p:cTn id="4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0139 0.00833 -0.00393 0.00607 -0.00393 C -0.02084 -0.00393 -0.04896 0.00139 -0.07587 0.00625 C -0.08091 0.00834 -0.08612 0.00949 -0.09098 0.01227 C -0.09375 0.01366 -0.10157 0.01759 -0.09862 0.01829 C -0.09306 0.01968 -0.0875 0.01551 -0.08195 0.01435 C -0.07379 0.01273 -0.05764 0.01019 -0.05764 0.01019 C -0.01424 0.01528 0.00902 0.01597 0.04392 0.04653 C 0.05191 0.06088 0.05625 0.07222 0.06059 0.08889 C 0.05677 0.11621 0.0625 0.11852 0.04392 0.11528 C 0.04288 0.11459 0.02812 0.10602 0.03177 0.10116 C 0.03281 0.09977 0.03489 0.10232 0.03628 0.10324 C 0.03888 0.10509 0.04149 0.10718 0.04392 0.10926 C 0.05191 0.11621 0.05937 0.12384 0.06805 0.1294 C 0.06093 0.13264 0.05972 0.12778 0.05295 0.12338 C 0.05191 0.12199 0.05121 0.12014 0.05 0.11921 C 0.04861 0.11806 0.04566 0.11945 0.04531 0.11736 C 0.04479 0.11505 0.04652 0.11158 0.04843 0.11111 C 0.05833 0.1088 0.06857 0.10996 0.07864 0.10926 C 0.07708 0.10787 0.07569 0.10625 0.07413 0.10509 C 0.07274 0.10417 0.071 0.1044 0.06961 0.10324 C 0.05868 0.09445 0.07586 0.10324 0.06197 0.09699 C 0.06406 0.09421 0.06545 0.09051 0.06805 0.08889 C 0.07552 0.08403 0.07795 0.0882 0.08628 0.08102 C 0.07257 0.07153 0.05972 0.07222 0.04392 0.07084 C 0.00191 0.08287 -0.0441 0.07986 -0.08646 0.08102 C -0.09358 0.08171 -0.1007 0.08171 -0.10764 0.08287 C -0.11233 0.08357 -0.11684 0.08496 -0.12136 0.08704 C -0.12431 0.08843 -0.11528 0.08565 -0.11216 0.08496 C -0.07587 0.07778 -0.12414 0.08843 -0.08803 0.07894 C -0.08455 0.07801 -0.08091 0.07778 -0.07726 0.07685 C -0.07483 0.07639 -0.06719 0.07454 -0.0698 0.07477 C -0.07848 0.0757 -0.08698 0.07732 -0.09549 0.07894 C -0.10209 0.08009 -0.10868 0.08148 -0.11528 0.08287 C -0.13698 0.08218 -0.15868 0.08102 -0.18039 0.08102 C -0.18542 0.08102 -0.17014 0.08079 -0.16528 0.08287 C -0.16181 0.08449 -0.1724 0.08565 -0.17587 0.08704 C -0.18143 0.08912 -0.18698 0.09121 -0.19254 0.09306 C -0.21719 0.10093 -0.24306 0.09884 -0.26823 0.10116 C -0.27466 0.10926 -0.26459 0.10834 -0.25921 0.10926 C -0.24966 0.11088 -0.23993 0.11204 -0.23039 0.1132 C -0.22483 0.11389 -0.21372 0.11528 -0.21372 0.11528 C -0.20973 0.11667 -0.20556 0.11806 -0.20157 0.11921 C -0.19896 0.11991 -0.19514 0.11829 -0.19393 0.1213 C -0.19306 0.12384 -0.19792 0.12269 -0.2 0.12338 C -0.20452 0.12477 -0.20921 0.12616 -0.21372 0.12732 C -0.2198 0.12894 -0.22587 0.13009 -0.23195 0.13148 C -0.26303 0.12986 -0.30296 0.13241 -0.33646 0.12338 C -0.32796 0.10695 -0.33507 0.13264 -0.33803 0.13542 C -0.3415 0.13866 -0.34618 0.13889 -0.35 0.14144 C -0.36268 0.13866 -0.37553 0.13704 -0.38803 0.13334 C -0.40816 0.12755 -0.429 0.11088 -0.44705 0.09699 C -0.46615 0.08218 -0.48542 0.06273 -0.50764 0.05671 C -0.51702 0.0581 -0.52223 0.05903 -0.53039 0.06273 C -0.55903 0.05996 -0.58681 0.05648 -0.61528 0.05255 C -0.65226 0.05625 -0.63473 0.05278 -0.62275 0.06065 C -0.62379 0.06435 -0.63021 0.07084 -0.62726 0.07084 C -0.61615 0.07084 -0.59844 0.05347 -0.58941 0.04861 C -0.58056 0.04398 -0.57066 0.04236 -0.56216 0.03658 C -0.52813 0.01389 -0.49323 -0.00717 -0.46216 -0.03634 C -0.35973 -0.1331 -0.26198 -0.22129 -0.17587 -0.34537 C -0.13768 -0.40046 -0.10643 -0.44745 -0.09254 -0.52106 C -0.09514 -0.55509 -0.09254 -0.57523 -0.11372 -0.59375 C -0.10243 -0.62893 -0.05643 -0.66898 -0.03803 -0.68889 C -0.00678 -0.72268 0.02274 -0.75278 0.04843 -0.79375 C 0.05 -0.79954 0.05746 -0.825 0.05746 -0.83009 C 0.05746 -0.86829 0.03107 -0.88241 0.00746 -0.88889 C -0.01962 -0.88773 -0.03959 -0.89074 -0.06372 -0.88079 C -0.07362 -0.8669 -0.04948 -0.87454 -0.04862 -0.87454 C -0.029 -0.88217 -0.04688 -0.8743 -0.02275 -0.88889 C -0.01684 -0.89236 -0.01094 -0.89606 -0.00469 -0.89884 C -0.00313 -0.89954 0.00104 -0.90254 0 -0.90092 C -0.00348 -0.8956 -0.00938 -0.89444 -0.01372 -0.89074 C -0.03577 -0.87199 -0.05799 -0.86759 -0.08334 -0.86041 C -0.11841 -0.85046 -0.15365 -0.83912 -0.18941 -0.83426 C -0.1915 -0.83333 -0.19948 -0.83148 -0.19549 -0.82407 C -0.19358 -0.82037 -0.18941 -0.82037 -0.18646 -0.81805 C -0.17987 -0.81296 -0.17379 -0.80694 -0.16823 -0.8 C -0.17639 -0.77338 -0.229 -0.7706 -0.24549 -0.76991 C -0.28386 -0.76759 -0.32223 -0.76829 -0.36059 -0.76759 C -0.40608 -0.76898 -0.45157 -0.76898 -0.49705 -0.77153 C -0.51476 -0.77245 -0.55 -0.77778 -0.55 -0.77778 C -0.52796 -0.79699 -0.50174 -0.79768 -0.47587 -0.80393 C -0.45921 -0.80787 -0.44254 -0.8125 -0.42587 -0.81597 C -0.44098 -0.82454 -0.45695 -0.81458 -0.47275 -0.81204 C -0.53559 -0.80185 -0.59757 -0.79699 -0.66059 -0.7919 C -0.68299 -0.78449 -0.67292 -0.78055 -0.65921 -0.77778 C -0.60938 -0.76736 -0.67934 -0.78055 -0.61528 -0.76991 C -0.52691 -0.75463 -0.57153 -0.75856 -0.50157 -0.75555 C -0.53039 -0.74028 -0.50382 -0.75208 -0.54862 -0.74329 C -0.579 -0.73727 -0.60921 -0.72986 -0.63941 -0.72315 C -0.65434 -0.71991 -0.66841 -0.71111 -0.68334 -0.70717 C -0.68438 -0.70579 -0.69202 -0.69861 -0.68195 -0.69884 C -0.66372 -0.6993 -0.64549 -0.70278 -0.62726 -0.70486 C -0.54098 -0.72662 -0.56129 -0.71666 -0.50157 -0.74329 C -0.48698 -0.74977 -0.47448 -0.75509 -0.46372 -0.76991 C -0.5625 -0.80671 -0.66875 -0.7743 -0.77136 -0.77361 C -0.78438 -0.77153 -0.79757 -0.77037 -0.81059 -0.76759 C -0.83542 -0.76227 -0.83039 -0.7625 -0.8198 -0.75949 C -0.77865 -0.76366 -0.73368 -0.76389 -0.69705 -0.7919 C -0.71164 -0.81134 -0.76754 -0.79815 -0.77136 -0.79791 C -0.85955 -0.78102 -0.79046 -0.79259 -0.86216 -0.78379 C -0.87622 -0.78194 -0.89063 -0.78032 -0.90469 -0.77778 C -0.91025 -0.77685 -0.92553 -0.76852 -0.92136 -0.77361 C -0.91598 -0.78032 -0.88837 -0.78403 -0.88195 -0.78565 C -0.85 -0.79305 -0.81164 -0.79884 -0.78195 -0.81805 C -0.77657 -0.83842 -0.7783 -0.82616 -0.81528 -0.82014 C -0.82882 -0.81782 -0.8415 -0.81088 -0.85469 -0.80602 C -0.8566 -0.80393 -0.86059 -0.80324 -0.86059 -0.8 C -0.86059 -0.79722 -0.85678 -0.79745 -0.85469 -0.79791 C -0.83612 -0.80185 -0.81511 -0.80972 -0.79705 -0.81805 C -0.79584 -0.81967 -0.78907 -0.82616 -0.79862 -0.82407 C -0.80035 -0.82361 -0.80157 -0.82153 -0.80313 -0.82014 C -0.80851 -0.81597 -0.81459 -0.81412 -0.8198 -0.81018 C -0.83247 -0.80023 -0.84254 -0.79051 -0.85157 -0.77569 C -0.86077 -0.74051 -0.82379 -0.73194 -0.80608 -0.72916 C -0.8 -0.72986 -0.79393 -0.72963 -0.78803 -0.73125 C -0.78629 -0.73171 -0.78334 -0.73264 -0.78334 -0.73518 C -0.78334 -0.73727 -0.78646 -0.7368 -0.78803 -0.73727 C -0.81146 -0.7331 -0.83438 -0.72592 -0.85608 -0.71296 C -0.8566 -0.7118 -0.86164 -0.70347 -0.86059 -0.70092 C -0.8599 -0.6993 -0.85764 -0.6993 -0.85608 -0.69884 C -0.85053 -0.69699 -0.84514 -0.69606 -0.83941 -0.69491 C -0.82379 -0.69629 -0.80816 -0.69884 -0.79254 -0.69884 C -0.78993 -0.69884 -0.79757 -0.69653 -0.8 -0.69491 C -0.80521 -0.69166 -0.81007 -0.68796 -0.81528 -0.68472 C -0.82778 -0.67754 -0.83889 -0.67338 -0.84862 -0.66041 C -0.85035 -0.65069 -0.84862 -0.64815 -0.84098 -0.64629 C -0.82587 -0.64259 -0.81059 -0.64004 -0.79549 -0.63634 C -0.80782 -0.63079 -0.81962 -0.62361 -0.83195 -0.61805 C -0.8375 -0.6125 -0.84375 -0.60833 -0.84862 -0.60185 C -0.84566 -0.58611 -0.83247 -0.58264 -0.82136 -0.57963 C -0.79271 -0.57199 -0.79601 -0.57268 -0.77587 -0.56967 C -0.77431 -0.56898 -0.77101 -0.56967 -0.77136 -0.56759 C -0.77188 -0.56435 -0.77535 -0.56366 -0.77726 -0.56157 C -0.7823 -0.55555 -0.78768 -0.54977 -0.79254 -0.54329 C -0.79844 -0.50903 -0.75105 -0.52407 -0.73803 -0.52315 C -0.75122 -0.51713 -0.76355 -0.51088 -0.77726 -0.50717 C -0.78403 -0.49838 -0.77865 -0.49398 -0.77275 -0.48889 C -0.75157 -0.44583 -0.77362 -0.49051 -0.75764 -0.45856 C -0.75556 -0.4544 -0.75157 -0.44629 -0.75157 -0.44629 C -0.74931 -0.42569 -0.74844 -0.42708 -0.75313 -0.4 C -0.76285 -0.34352 -0.81493 -0.33079 -0.83803 -0.29074 C -0.8349 -0.2743 -0.83837 -0.28148 -0.81667 -0.28472 C -0.81372 -0.28518 -0.81059 -0.28611 -0.80764 -0.2868 C -0.80504 -0.2875 -0.79809 -0.29143 -0.8 -0.28889 C -0.80226 -0.28588 -0.80643 -0.2868 -0.80921 -0.28472 C -0.83021 -0.26875 -0.80938 -0.28379 -0.83039 -0.2706 C -0.83542 -0.26736 -0.84549 -0.26041 -0.84549 -0.26041 C -0.83855 -0.25764 -0.83247 -0.25949 -0.82587 -0.2625 C -0.81667 -0.27477 -0.80261 -0.27662 -0.79098 -0.28264 C -0.78264 -0.2868 -0.775 -0.29282 -0.76667 -0.29676 C -0.7573 -0.30116 -0.7474 -0.30278 -0.73803 -0.30694 C -0.71164 -0.31829 -0.68559 -0.33171 -0.65921 -0.34329 C -0.62257 -0.35926 -0.5849 -0.37129 -0.55 -0.39375 C -0.56598 -0.39745 -0.58386 -0.39352 -0.6 -0.3919 C -0.73143 -0.37778 -0.58039 -0.39236 -0.69393 -0.38171 C -0.7 -0.38032 -0.70608 -0.37963 -0.71216 -0.37778 C -0.71476 -0.37685 -0.72257 -0.37291 -0.7198 -0.37384 C -0.68716 -0.38217 -0.65608 -0.39166 -0.62275 -0.39791 C -0.55174 -0.42616 -0.47431 -0.43912 -0.40921 -0.48889 C -0.40678 -0.49352 -0.40191 -0.49861 -0.41216 -0.49884 C -0.43091 -0.4993 -0.44948 -0.49768 -0.46823 -0.49676 C -0.529 -0.49352 -0.58924 -0.48356 -0.65 -0.4787 C -0.654 -0.47662 -0.66059 -0.47801 -0.66216 -0.47268 C -0.66337 -0.46875 -0.65625 -0.46852 -0.65313 -0.46852 C -0.63386 -0.46852 -0.61476 -0.47129 -0.59549 -0.47268 C -0.57431 -0.47407 -0.55313 -0.47523 -0.53195 -0.47662 C -0.42778 -0.49097 -0.31928 -0.49491 -0.2198 -0.54329 C -0.26893 -0.57685 -0.22622 -0.5493 -0.37136 -0.54537 C -0.37396 -0.54537 -0.38143 -0.54305 -0.37882 -0.54329 C -0.30712 -0.55139 -0.2375 -0.56435 -0.16667 -0.57963 C -0.09219 -0.59606 -0.13368 -0.58333 -0.06372 -0.6 C -0.05712 -0.60162 -0.0375 -0.60856 -0.04393 -0.60602 C -0.06476 -0.59768 -0.10643 -0.58356 -0.12882 -0.57778 C -0.17014 -0.5669 -0.21893 -0.56528 -0.25608 -0.53518 C -0.25035 -0.52754 -0.25018 -0.52546 -0.23941 -0.52546 C -0.15053 -0.52546 -0.06164 -0.52778 0.02725 -0.52916 C 0.04132 -0.53055 0.05538 -0.53333 0.06961 -0.53333 C 0.07378 -0.53333 0.08333 -0.53426 0.08177 -0.52916 C 0.07986 -0.52268 0.0717 -0.52546 0.06666 -0.52315 C 0.0552 -0.51342 0.04322 -0.50995 0.03177 -0.50092 C 0.04461 -0.4794 0.03472 -0.49166 0.06961 -0.48079 C 0.09322 -0.47338 0.1184 -0.46875 0.14236 -0.46458 C 0.14895 -0.4618 0.15555 -0.45972 0.16197 -0.45648 C 0.1651 -0.45486 0.16927 -0.45416 0.17118 -0.45046 C 0.17291 -0.44722 0.16614 -0.4419 0.15902 -0.44028 C 0.15052 -0.43842 0.11632 -0.43657 0.11197 -0.43657 C 0.07291 -0.44028 0.03298 -0.44305 -0.00608 -0.44838 C 0.04531 -0.48264 0.10034 -0.49537 0.15607 -0.51713 C 0.18559 -0.5287 0.21319 -0.54375 0.24236 -0.55555 C 0.25243 -0.56898 0.23281 -0.56713 0.22569 -0.56759 C 0.19635 -0.56921 0.16718 -0.57083 0.13784 -0.57153 C 0.08836 -0.57338 0.03888 -0.5743 -0.01059 -0.57569 C -0.04896 -0.57824 -0.08837 -0.57731 -0.12587 -0.58981 C -0.1283 -0.5919 -0.13351 -0.5919 -0.13334 -0.59606 C -0.13264 -0.60741 -0.10903 -0.63356 -0.10608 -0.63634 C -0.08351 -0.65764 -0.05973 -0.67662 -0.03646 -0.69676 C 0.0118 -0.73866 0.03489 -0.74375 0.06961 -0.78981 C 0.07656 -0.82569 0.02395 -0.8206 0.01059 -0.82222 C -0.00816 -0.82454 -0.04549 -0.83009 -0.04549 -0.83009 C -0.03247 -0.83102 0.01944 -0.83333 0.04079 -0.83819 C 0.05208 -0.84074 0.07413 -0.84838 0.07413 -0.84838 C 0.05312 -0.85416 0.02725 -0.84305 0.00746 -0.84028 C -0.06164 -0.83032 -0.06459 -0.83217 -0.13334 -0.83009 C -0.17639 -0.8243 -0.2191 -0.81412 -0.26216 -0.81018 C -0.26372 -0.80926 -0.26823 -0.80787 -0.26667 -0.80787 C -0.25417 -0.80787 -0.24757 -0.81273 -0.2349 -0.81597 C -0.22049 -0.81967 -0.21112 -0.82037 -0.19705 -0.82222 C -0.19358 -0.82361 -0.18282 -0.82616 -0.18646 -0.82616 C -0.19757 -0.82616 -0.20851 -0.81643 -0.21823 -0.81204 C -0.24289 -0.80116 -0.26737 -0.79004 -0.29254 -0.78171 C -0.32171 -0.77199 -0.35365 -0.76458 -0.37882 -0.7412 C -0.37101 -0.73079 -0.36112 -0.73217 -0.35 -0.73125 C -0.32622 -0.72916 -0.30261 -0.72731 -0.27882 -0.72546 C -0.33698 -0.69282 -0.39566 -0.68727 -0.44862 -0.63634 C -0.46077 -0.62454 -0.47396 -0.61435 -0.48334 -0.59791 C -0.48941 -0.58727 -0.4915 -0.57176 -0.49393 -0.55949 C -0.49271 -0.53819 -0.49219 -0.50486 -0.48646 -0.48264 C -0.47657 -0.44375 -0.46025 -0.41204 -0.44705 -0.37569 C -0.44757 -0.37222 -0.44671 -0.36805 -0.44862 -0.36551 C -0.46459 -0.34398 -0.48837 -0.3456 -0.50469 -0.32523 C -0.49202 -0.31967 -0.5007 -0.32245 -0.47431 -0.32916 C -0.46459 -0.33171 -0.45469 -0.33241 -0.44549 -0.33727 C -0.44306 -0.33866 -0.43559 -0.34282 -0.43803 -0.3412 C -0.46928 -0.32106 -0.48438 -0.29629 -0.49705 -0.2544 C -0.49896 -0.2375 -0.50087 -0.22685 -0.49705 -0.20787 C -0.49636 -0.20486 -0.49098 -0.20185 -0.49098 -0.20185 E">
                                      <p:cBhvr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752480" y="3048120"/>
            <a:ext cx="5715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oor Richard"/>
              </a:rPr>
              <a:t>YOU W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25862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05120" y="1371600"/>
            <a:ext cx="487656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JazzText"/>
              </a:rPr>
              <a:t>Sorr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JazzText"/>
              <a:ea typeface="JazzText"/>
            </a:endParaRPr>
          </a:p>
        </p:txBody>
      </p:sp>
      <p:sp>
        <p:nvSpPr>
          <p:cNvPr id="58" name=""/>
          <p:cNvSpPr txBox="1"/>
          <p:nvPr/>
        </p:nvSpPr>
        <p:spPr>
          <a:xfrm rot="20389800">
            <a:off x="533520" y="4266720"/>
            <a:ext cx="3581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askerville Old Face"/>
              </a:rPr>
              <a:t>Try again.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3838320" cy="362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ick on try again to go back to the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600200" y="1371600"/>
            <a:ext cx="6248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ench Script MT"/>
              </a:rPr>
              <a:t>Thanks!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ench Script MT"/>
              </a:rPr>
              <a:t>Come Again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vsquad.com/media/2006/05/MrT3.jp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cache2.allposters.com/images/151/ET5010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goldenworld.files.wordpress.com/2006/04/StewieGriffin2%20400w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rtfiles.art.com/images/-/Chuck-Norris-Photograph-I11796917.j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600200" y="457200"/>
            <a:ext cx="6705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auhaus 93"/>
              </a:rPr>
              <a:t>WEBSITES USED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auhaus 93"/>
              <a:ea typeface="Bauhaus 9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3:32Z</dcterms:created>
  <dc:creator>CGB</dc:creator>
  <dc:description/>
  <dc:language>en-US</dc:language>
  <cp:lastModifiedBy>CGB</cp:lastModifiedBy>
  <dcterms:modified xsi:type="dcterms:W3CDTF">2008-06-10T14:15:03Z</dcterms:modified>
  <cp:revision>23</cp:revision>
  <dc:subject/>
  <dc:title>Slide 1</dc:title>
</cp:coreProperties>
</file>